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type.wav" ContentType="audio/x-wav"/>
  <Override PartName="/ppt/media/projctor.wav" ContentType="audio/x-wav"/>
  <Override PartName="/ppt/media/drumroll.wav" ContentType="audio/x-wav"/>
  <Override PartName="/ppt/media/cashreg.wav" ContentType="audio/x-wav"/>
  <Override PartName="/ppt/media/image13.png" ContentType="image/png"/>
  <Override PartName="/ppt/media/image11.png" ContentType="image/png"/>
  <Override PartName="/ppt/media/camera.wav" ContentType="audio/x-wav"/>
  <Override PartName="/ppt/media/explode.wav" ContentType="audio/x-wav"/>
  <Override PartName="/ppt/media/image9.png" ContentType="image/png"/>
  <Override PartName="/ppt/media/image8.png" ContentType="image/png"/>
  <Override PartName="/ppt/media/chimes.wav" ContentType="audio/x-wav"/>
  <Override PartName="/ppt/media/image1.png" ContentType="image/png"/>
  <Override PartName="/ppt/media/image7.wmf" ContentType="image/x-wmf"/>
  <Override PartName="/ppt/media/image12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4BC-4B9E-4474-A245-78D6B48E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C9D-AD07-4313-B58E-AA9D629D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1EC-9313-4D02-BF0C-E28F3518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092-94AD-482C-9147-89CC58C3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AFB-7B5C-43F0-AAE2-F142F4C9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1C8-D57A-4557-93EF-181A5F8E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147-502E-444D-98FE-E318558D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241-DA63-4BDA-9B9A-C68C3370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DDD-34D2-4C54-B217-117B01A1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6F3-7DCA-4651-8ECC-AA43799E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61D-060E-4230-8AB4-DC28205B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A95-428C-44B4-A4F7-452B9D12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92F7-D237-4C5B-AF81-D64B03926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umroll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audio" Target="../media/glass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RibbonSharp"/>
          <p:cNvSpPr/>
          <p:nvPr/>
        </p:nvSpPr>
        <p:spPr>
          <a:xfrm>
            <a:off x="0" y="1844640"/>
            <a:ext cx="9144000" cy="3240000"/>
          </a:xfrm>
          <a:custGeom>
            <a:avLst/>
            <a:gdLst>
              <a:gd name="textAreaLeft" fmla="*/ 1340640 w 9144000"/>
              <a:gd name="textAreaRight" fmla="*/ 7803360 w 9144000"/>
              <a:gd name="textAreaTop" fmla="*/ 405000 h 3240000"/>
              <a:gd name="textAreaBottom" fmla="*/ 32403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67" y="0"/>
                </a:lnTo>
                <a:lnTo>
                  <a:pt x="5867" y="2700"/>
                </a:lnTo>
                <a:lnTo>
                  <a:pt x="15733" y="2700"/>
                </a:lnTo>
                <a:lnTo>
                  <a:pt x="15733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433" y="18900"/>
                </a:lnTo>
                <a:lnTo>
                  <a:pt x="18433" y="21600"/>
                </a:lnTo>
                <a:lnTo>
                  <a:pt x="3167" y="21600"/>
                </a:lnTo>
                <a:lnTo>
                  <a:pt x="3167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867" y="2700"/>
                </a:moveTo>
                <a:lnTo>
                  <a:pt x="3167" y="2700"/>
                </a:lnTo>
                <a:lnTo>
                  <a:pt x="3167" y="18900"/>
                </a:lnTo>
              </a:path>
              <a:path fill="none" w="21600" h="21600">
                <a:moveTo>
                  <a:pt x="3167" y="2700"/>
                </a:moveTo>
                <a:lnTo>
                  <a:pt x="5867" y="0"/>
                </a:lnTo>
              </a:path>
              <a:path fill="none" w="21600" h="21600">
                <a:moveTo>
                  <a:pt x="15733" y="2700"/>
                </a:moveTo>
                <a:lnTo>
                  <a:pt x="18433" y="2700"/>
                </a:lnTo>
                <a:lnTo>
                  <a:pt x="18433" y="18900"/>
                </a:lnTo>
              </a:path>
              <a:path fill="none" w="21600" h="21600">
                <a:moveTo>
                  <a:pt x="18433" y="2700"/>
                </a:moveTo>
                <a:lnTo>
                  <a:pt x="15733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Times New Roman"/>
                <a:cs typeface="Simplified Arabic Backslanted"/>
              </a:rPr>
              <a:t>الوسائل التعليمي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77320" y="306216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1292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51814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1981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9288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أقـــلام المستخدمــــة اقـــل ضـــرراً من الطباشيــــــــــ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1148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شــــــد انتبـــــــــاه الطــــــــــلاب نحـــــــــو الـــ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1814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إمكانية حفظ الشفافيات المعدة واستخدامــــــها مرات ع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9810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ساعـــد المعلـــم علــى إعــداد المــادة الدراسيـــة مسبقـــ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144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يــــح للمعلــــــــــم العـــــــرض في مواجهــــة الطــــــل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nt"/>
          <p:cNvSpPr/>
          <p:nvPr/>
        </p:nvSpPr>
        <p:spPr>
          <a:xfrm>
            <a:off x="8458200" y="2133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nt"/>
          <p:cNvSpPr/>
          <p:nvPr/>
        </p:nvSpPr>
        <p:spPr>
          <a:xfrm>
            <a:off x="8458200" y="10666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nt"/>
          <p:cNvSpPr/>
          <p:nvPr/>
        </p:nvSpPr>
        <p:spPr>
          <a:xfrm>
            <a:off x="8458200" y="42670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nt"/>
          <p:cNvSpPr/>
          <p:nvPr/>
        </p:nvSpPr>
        <p:spPr>
          <a:xfrm>
            <a:off x="8458200" y="53341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2481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imes New Roman"/>
              </a:rPr>
              <a:t>عيوب جهاز عرض الشفافي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09680"/>
            <a:ext cx="769608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</a:rPr>
              <a:t>محدودية استعماله من قبل الطلاب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572000"/>
            <a:ext cx="769608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تأثر المادة العلمية بالحرارة عند إطالة في العر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53280" y="2209680"/>
            <a:ext cx="1067040" cy="83844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153280" y="4648320"/>
            <a:ext cx="1067040" cy="83808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Music"/>
          <p:cNvSpPr/>
          <p:nvPr/>
        </p:nvSpPr>
        <p:spPr>
          <a:xfrm>
            <a:off x="8534520" y="49528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Music"/>
          <p:cNvSpPr/>
          <p:nvPr/>
        </p:nvSpPr>
        <p:spPr>
          <a:xfrm>
            <a:off x="8534520" y="24382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55308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جهاز عرض الأفلام الثابت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371600"/>
            <a:ext cx="4648320" cy="1219320"/>
          </a:xfrm>
          <a:custGeom>
            <a:avLst/>
            <a:gdLst>
              <a:gd name="textAreaLeft" fmla="*/ 1060920 w 4648320"/>
              <a:gd name="textAreaRight" fmla="*/ 3587400 w 46483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40094"/>
                </a:solidFill>
                <a:latin typeface="Times New Roman"/>
                <a:cs typeface="Led Italic Font"/>
              </a:rPr>
              <a:t>مميزات جهاز عرض الأفلام الثابت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940120"/>
            <a:ext cx="6477120" cy="173988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ـــــــــل الاستخـــــــــــدام والنقـــــــــــــ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657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ولــــة التحكــــم فــي سرعـــة العـــ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41972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ــة إضافــــــــــــة الصـــــــــــــــــو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81480"/>
            <a:ext cx="6477120" cy="119124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ة إنتـــاج مـواد تعليمية بأقــل تكلف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943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متعدد الاستخــدام ويشـــد انتبـــاه الطلــــ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38098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3048120"/>
            <a:ext cx="990720" cy="64116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44956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52578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9436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3200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39625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46483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5410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60958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7777080" cy="131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Hesham Ghorn Italic"/>
              </a:rPr>
              <a:t>عيوب جهاز عرض الأفلام الثابت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8120"/>
            <a:ext cx="7391520" cy="8380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hi-IN" sz="2800" spc="-1" strike="noStrike">
                <a:solidFill>
                  <a:srgbClr val="660033"/>
                </a:solidFill>
                <a:latin typeface="Times New Roman"/>
              </a:rPr>
              <a:t>انعدام عنصر الحركة أي عدم القدرة على توضيح حركة الأشي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952880"/>
            <a:ext cx="73915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صعـــوبة رؤية المعلم للطلاب بسبب فقدان الضـــــــــو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9528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3048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327672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18148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60200"/>
            <a:ext cx="8280360" cy="1900440"/>
          </a:xfrm>
          <a:custGeom>
            <a:avLst/>
            <a:gdLst>
              <a:gd name="textAreaLeft" fmla="*/ 1656000 w 8280360"/>
              <a:gd name="textAreaRight" fmla="*/ 9936720 w 8280360"/>
              <a:gd name="textAreaTop" fmla="*/ 246240 h 1900440"/>
              <a:gd name="textAreaBottom" fmla="*/ 1654200 h 1900440"/>
            </a:gdLst>
            <a:ahLst/>
            <a:rect l="textAreaLeft" t="textAreaTop" r="textAreaRight" b="textAreaBottom"/>
            <a:pathLst>
              <a:path w="21600" h="21600">
                <a:moveTo>
                  <a:pt x="4320" y="1400"/>
                </a:moveTo>
                <a:cubicBezTo>
                  <a:pt x="9360" y="-3560"/>
                  <a:pt x="16560" y="6360"/>
                  <a:pt x="21600" y="1400"/>
                </a:cubicBezTo>
                <a:lnTo>
                  <a:pt x="17280" y="20200"/>
                </a:lnTo>
                <a:cubicBezTo>
                  <a:pt x="12240" y="25160"/>
                  <a:pt x="504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 baseline="-25000">
                <a:solidFill>
                  <a:srgbClr val="000000"/>
                </a:solidFill>
                <a:latin typeface="Times New Roman"/>
                <a:cs typeface="Simplified Arabic Backslanted"/>
              </a:rPr>
              <a:t>أنـــواع الــوسـائــل الــتعــليــميـــ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3581280"/>
            <a:ext cx="4319640" cy="16002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وسائل تعليمية سم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6320" y="4648320"/>
            <a:ext cx="2057400" cy="16761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معا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اللغ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2133720" cy="1600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إذ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در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2362320"/>
            <a:ext cx="2057400" cy="167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شر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كاسي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4572000"/>
            <a:ext cx="2057400" cy="1676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ر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فو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1700280"/>
            <a:ext cx="4176720" cy="1195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Simple Outline Pat"/>
              </a:rPr>
              <a:t>وسائل تعليمية بص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2514600"/>
            <a:ext cx="2133720" cy="14479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ــعـا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609480"/>
            <a:ext cx="213372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8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جهز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ع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90920"/>
            <a:ext cx="2133720" cy="13716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40094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الرحل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480"/>
            <a:ext cx="205740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سبو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بأنواع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648320"/>
            <a:ext cx="7925040" cy="1904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 Backslanted"/>
              </a:rPr>
              <a:t> </a:t>
            </a: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وسائل تعليمية سمع بصر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AdvertisingExtraBold"/>
              </a:rPr>
              <a:t>( التلفاز- الحاسب – الندوات .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29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حديد الأهداف السلوكية للدرس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رتيب الأهداف السلوكية حسب نواتج التعليم التي تمثلها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6386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حديد خصائص الوسائل التعليمية المطلوبة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34434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8077320" y="45720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56386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1880" y="4724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1880" y="5791320"/>
            <a:ext cx="487440" cy="49680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762120" y="0"/>
            <a:ext cx="7238880" cy="1295280"/>
          </a:xfrm>
          <a:prstGeom prst="horizontalScroll">
            <a:avLst>
              <a:gd name="adj" fmla="val 12500"/>
            </a:avLst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اختيار الوسيلة التعليمية المناسبة لموقف تعليمي</a:t>
            </a:r>
            <a:r>
              <a:rPr b="1" lang="en-US" sz="3200" spc="-1" strike="noStrike">
                <a:solidFill>
                  <a:srgbClr val="940094"/>
                </a:solidFill>
                <a:latin typeface="Times New Roman"/>
                <a:ea typeface="Hesham Cortob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523880"/>
            <a:ext cx="8497800" cy="1473480"/>
          </a:xfrm>
          <a:prstGeom prst="flowChartPunchedCar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c3800"/>
                </a:solidFill>
                <a:latin typeface="Times New Roman"/>
                <a:cs typeface="AdvertisingExtraBold"/>
              </a:rPr>
              <a:t>عند اختيار وسيلة تعليمية يجب معرفة مدى تناس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مع الموقف التعلي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الذي ستستخدم فيه ، ويكون ذلك عن طر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22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ـحـــلــيـــل خــصـــائـــص المــتعــلمـــــــــيــــن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حــديـــد خــصـــائــــص بــيــئــــة التــعـــليـــــ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8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إعــداد قائمــة بالوسائــل التعليميـة المناسبــــــة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581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تحديد المعوقات العلمية التي تؤثر في استخدام الوسائل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724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اختيــــــار الوسيلــــــــــة بعـــــــد الاستخ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867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تقويـــــــم الوسيلــــــــة بعــــــــد الاستخـ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36720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59436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2438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1295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152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48769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1880" y="384660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1880" y="5065560"/>
            <a:ext cx="487440" cy="49716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87440" cy="49716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1880" y="2590920"/>
            <a:ext cx="487440" cy="49680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381880" y="1484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8381880" y="341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ransition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solidFill>
            <a:srgbClr val="a55207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cc99"/>
                </a:solidFill>
                <a:latin typeface="Times New Roman"/>
                <a:cs typeface="Hesham Cortoba"/>
              </a:rPr>
              <a:t>الـــسبورة الــطـبـاشـيـريــ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514600"/>
            <a:ext cx="5867640" cy="762120"/>
          </a:xfrm>
          <a:prstGeom prst="roundRect">
            <a:avLst>
              <a:gd name="adj" fmla="val 36667"/>
            </a:avLst>
          </a:prstGeom>
          <a:gradFill rotWithShape="0">
            <a:gsLst>
              <a:gs pos="0">
                <a:srgbClr val="fabb82"/>
              </a:gs>
              <a:gs pos="100000">
                <a:srgbClr val="634a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* اللــــــــوح العــــــادي ( الثابـــــت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* اللـــــوح ذو الوجهيـــــن ( القلاب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343400"/>
            <a:ext cx="5867640" cy="762120"/>
          </a:xfrm>
          <a:prstGeom prst="roundRect">
            <a:avLst>
              <a:gd name="adj" fmla="val 441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لـــوح المتحـــرك مع حامـــــــــــل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257800"/>
            <a:ext cx="5867640" cy="762120"/>
          </a:xfrm>
          <a:prstGeom prst="roundRect">
            <a:avLst>
              <a:gd name="adj" fmla="val 2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ــبــــــــــورة الحـائـطــ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61722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بــــــــــورة البلاسـتيـك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25653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505320"/>
            <a:ext cx="1904760" cy="71100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43941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525780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146640"/>
            <a:ext cx="182880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tebulb"/>
          <p:cNvSpPr/>
          <p:nvPr/>
        </p:nvSpPr>
        <p:spPr>
          <a:xfrm>
            <a:off x="7467480" y="26668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tebulb"/>
          <p:cNvSpPr/>
          <p:nvPr/>
        </p:nvSpPr>
        <p:spPr>
          <a:xfrm>
            <a:off x="7467480" y="365760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tebulb"/>
          <p:cNvSpPr/>
          <p:nvPr/>
        </p:nvSpPr>
        <p:spPr>
          <a:xfrm>
            <a:off x="7467480" y="44956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tebulb"/>
          <p:cNvSpPr/>
          <p:nvPr/>
        </p:nvSpPr>
        <p:spPr>
          <a:xfrm>
            <a:off x="7467480" y="53341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tebulb"/>
          <p:cNvSpPr/>
          <p:nvPr/>
        </p:nvSpPr>
        <p:spPr>
          <a:xfrm>
            <a:off x="7467480" y="62485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295280"/>
            <a:ext cx="6324480" cy="914400"/>
          </a:xfrm>
          <a:custGeom>
            <a:avLst/>
            <a:gdLst>
              <a:gd name="textAreaLeft" fmla="*/ 1443600 w 6324480"/>
              <a:gd name="textAreaRight" fmla="*/ 4880880 w 63244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أنواع السبورة الطباش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76320"/>
            <a:ext cx="82296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Hesham Cortob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Hesham Cortoba"/>
              </a:rPr>
              <a:t>قواعد استخدام السبورة الطباشي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8672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ستخدام نوع جيد من الطباشير وبألوان متعدد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8006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عدم الوقوف أمام السبور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73392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اختصار قدر الإمكان في المعلومات المكتوي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6668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</a:rPr>
              <a:t>الكتابة بخط واضح في خطوط مستقيمة وبشكل منظم ومنس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002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اهتمام بنظافة السبور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17524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28195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8620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49528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199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ree"/>
          <p:cNvSpPr/>
          <p:nvPr/>
        </p:nvSpPr>
        <p:spPr>
          <a:xfrm>
            <a:off x="8153280" y="182880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ree"/>
          <p:cNvSpPr/>
          <p:nvPr/>
        </p:nvSpPr>
        <p:spPr>
          <a:xfrm>
            <a:off x="8153280" y="289548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ree"/>
          <p:cNvSpPr/>
          <p:nvPr/>
        </p:nvSpPr>
        <p:spPr>
          <a:xfrm>
            <a:off x="8153280" y="3962520"/>
            <a:ext cx="381240" cy="30456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ree"/>
          <p:cNvSpPr/>
          <p:nvPr/>
        </p:nvSpPr>
        <p:spPr>
          <a:xfrm>
            <a:off x="8153280" y="502920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ree"/>
          <p:cNvSpPr/>
          <p:nvPr/>
        </p:nvSpPr>
        <p:spPr>
          <a:xfrm>
            <a:off x="8153280" y="609588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  <a:cs typeface="Hesham Gornata"/>
              </a:rPr>
              <a:t>الــسبـورة الـطـبـاشـيـريـ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352680"/>
            <a:ext cx="647676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قلة التكاليف وسهولة الاستــــــــمال والن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419720"/>
            <a:ext cx="6476760" cy="1068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تتيح للطلاب متابعة المادة الدراسية وتفصيلات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5334120"/>
            <a:ext cx="6476760" cy="1068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تكسب المعلم والطالب مهارة الكتابة والرســــــ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676520"/>
            <a:ext cx="4267080" cy="1371600"/>
          </a:xfrm>
          <a:prstGeom prst="irregularSeal1">
            <a:avLst/>
          </a:prstGeom>
          <a:gradFill rotWithShape="0">
            <a:gsLst>
              <a:gs pos="0">
                <a:srgbClr val="c5c5c5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مميزات السبورة الطباشير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335268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434340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772400" y="5333400"/>
            <a:ext cx="990720" cy="641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ound"/>
          <p:cNvSpPr/>
          <p:nvPr/>
        </p:nvSpPr>
        <p:spPr>
          <a:xfrm flipH="1">
            <a:off x="8077320" y="342900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ound"/>
          <p:cNvSpPr/>
          <p:nvPr/>
        </p:nvSpPr>
        <p:spPr>
          <a:xfrm flipH="1">
            <a:off x="8077320" y="441972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ound"/>
          <p:cNvSpPr/>
          <p:nvPr/>
        </p:nvSpPr>
        <p:spPr>
          <a:xfrm flipH="1">
            <a:off x="8077320" y="541008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gradFill rotWithShape="0">
            <a:gsLst>
              <a:gs pos="0">
                <a:srgbClr val="a5520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PT Bold Mirror"/>
              </a:rPr>
              <a:t> </a:t>
            </a:r>
            <a:r>
              <a:rPr b="1" lang="hi-IN" sz="5400" spc="-1" strike="noStrike">
                <a:solidFill>
                  <a:srgbClr val="000000"/>
                </a:solidFill>
                <a:latin typeface="Times New Roman"/>
                <a:cs typeface="Hesham AlSharq"/>
              </a:rPr>
              <a:t>جــهـاز عــرض الـشـفـافـيـ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371600"/>
            <a:ext cx="5867280" cy="1447920"/>
          </a:xfrm>
          <a:custGeom>
            <a:avLst/>
            <a:gdLst>
              <a:gd name="textAreaLeft" fmla="*/ 1690200 w 5867280"/>
              <a:gd name="textAreaRight" fmla="*/ 4177080 w 5867280"/>
              <a:gd name="textAreaTop" fmla="*/ 416880 h 1447920"/>
              <a:gd name="textAreaBottom" fmla="*/ 10310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45" y="12035"/>
                </a:lnTo>
                <a:lnTo>
                  <a:pt x="786" y="14846"/>
                </a:lnTo>
                <a:lnTo>
                  <a:pt x="5370" y="14326"/>
                </a:lnTo>
                <a:lnTo>
                  <a:pt x="3163" y="18437"/>
                </a:lnTo>
                <a:lnTo>
                  <a:pt x="7180" y="16167"/>
                </a:lnTo>
                <a:lnTo>
                  <a:pt x="6580" y="20741"/>
                </a:lnTo>
                <a:lnTo>
                  <a:pt x="9454" y="17133"/>
                </a:lnTo>
                <a:lnTo>
                  <a:pt x="10800" y="21600"/>
                </a:lnTo>
                <a:lnTo>
                  <a:pt x="12035" y="17155"/>
                </a:lnTo>
                <a:lnTo>
                  <a:pt x="14846" y="20814"/>
                </a:lnTo>
                <a:lnTo>
                  <a:pt x="14326" y="16230"/>
                </a:lnTo>
                <a:lnTo>
                  <a:pt x="18437" y="18437"/>
                </a:lnTo>
                <a:lnTo>
                  <a:pt x="16167" y="14420"/>
                </a:lnTo>
                <a:lnTo>
                  <a:pt x="20741" y="15020"/>
                </a:lnTo>
                <a:lnTo>
                  <a:pt x="17133" y="12146"/>
                </a:lnTo>
                <a:lnTo>
                  <a:pt x="21600" y="10800"/>
                </a:lnTo>
                <a:lnTo>
                  <a:pt x="17155" y="9565"/>
                </a:lnTo>
                <a:lnTo>
                  <a:pt x="20814" y="6754"/>
                </a:lnTo>
                <a:lnTo>
                  <a:pt x="16230" y="7274"/>
                </a:lnTo>
                <a:lnTo>
                  <a:pt x="18437" y="3163"/>
                </a:lnTo>
                <a:lnTo>
                  <a:pt x="14420" y="5433"/>
                </a:lnTo>
                <a:lnTo>
                  <a:pt x="15020" y="859"/>
                </a:lnTo>
                <a:lnTo>
                  <a:pt x="12146" y="4467"/>
                </a:lnTo>
                <a:lnTo>
                  <a:pt x="10800" y="0"/>
                </a:lnTo>
                <a:lnTo>
                  <a:pt x="9565" y="4445"/>
                </a:lnTo>
                <a:lnTo>
                  <a:pt x="6754" y="786"/>
                </a:lnTo>
                <a:lnTo>
                  <a:pt x="7274" y="5370"/>
                </a:lnTo>
                <a:lnTo>
                  <a:pt x="3163" y="3163"/>
                </a:lnTo>
                <a:lnTo>
                  <a:pt x="5433" y="7180"/>
                </a:lnTo>
                <a:lnTo>
                  <a:pt x="859" y="6580"/>
                </a:lnTo>
                <a:lnTo>
                  <a:pt x="4467" y="94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9135"/>
              </a:gs>
              <a:gs pos="100000">
                <a:srgbClr val="71421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مميزات جهاز عرض الشفاف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سهــــــولة إنتــــاج شفافيـــات متنوعـــة في وقت قصي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191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ســـــمـــح للمـعلـــــم التحكــــم في خطــــوات ال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334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ــــعــــمــــل فــــــــي الإضــــــــاءة العــــــــــاديــــــــــــــــ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3124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91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5334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nt"/>
          <p:cNvSpPr/>
          <p:nvPr/>
        </p:nvSpPr>
        <p:spPr>
          <a:xfrm>
            <a:off x="8458200" y="4343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nt"/>
          <p:cNvSpPr/>
          <p:nvPr/>
        </p:nvSpPr>
        <p:spPr>
          <a:xfrm>
            <a:off x="8458200" y="5486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5:14:40Z</dcterms:created>
  <dc:creator>Ahmed</dc:creator>
  <dc:description/>
  <dc:language>en-US</dc:language>
  <cp:lastModifiedBy>Ahmed</cp:lastModifiedBy>
  <dcterms:modified xsi:type="dcterms:W3CDTF">2008-10-01T05:19:51Z</dcterms:modified>
  <cp:revision>5</cp:revision>
  <dc:subject/>
  <dc:title>Slide 1</dc:title>
</cp:coreProperties>
</file>