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MPAUD8.WAV" ContentType="audio/x-wav"/>
  <Override PartName="/ppt/media/WMPAUD9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167-5A43-41B6-99BB-31D39809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A18-51D6-403C-907F-2A84C40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03C-1D88-4CFC-82F0-B0934083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EF5-7104-4197-9C29-5BC3692F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DFB-D2B2-42FA-A298-FD1EDC8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C72-4550-4876-872F-E934BEE4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C18-6AF8-45A6-9DBF-AEF33410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323-C05B-41DB-B6D7-3C6B84E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094-7FDA-4DD6-8DF2-77C31093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CF8-0D95-4AFE-A02A-7A645E4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F62-9766-4F47-A030-A2DFCE3A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CAA-A8F5-465E-9E7C-9B9474E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7E7-6F30-42A3-B050-CD66CBD0123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audio" Target="../media/WMPAUD9.WAV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MPAUD8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44280"/>
            <a:ext cx="8280360" cy="28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9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قويم الباب الأول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99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6995"/>
                            </p:stCondLst>
                            <p:childTnLst>
                              <p:par>
                                <p:cTn id="15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8995"/>
                            </p:stCondLst>
                            <p:childTnLst>
                              <p:par>
                                <p:cTn id="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أثبت أن كل مستوى طاقه رئيسى يتكون من عدة مستويات طاقة فرعية أو تحت مستوي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سمرفيلد        * بور         * ماكسويل    * رذر فور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31920" y="2492280"/>
            <a:ext cx="24606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سمرفيل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طاقة الأوربيتالات تكون متساوية تقريباً فى أحد الحالات الآتية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أوربيتالات المستوى الفرع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أوربيتالات المستوى الأساسى الواحد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الأوربيتالات التى تحتوى على نفس العدد من الإلكترونات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d , 4d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الأوربيتال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05560" y="1971720"/>
            <a:ext cx="80337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أ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قصى عدد لمستويات الطاقة الرئيسية فى أثقل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ذرات المعروفة هو ................. (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36320" y="3645000"/>
            <a:ext cx="4352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605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وربيتالات نفس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.........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شكل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ساوية الطاقة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ختلفة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-18108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عندما ينتقل إلكترون من 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ستوى الطاقة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، فإنه يكتسب كمية من الطاقة تساوى ...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          *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كم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94480" y="1341360"/>
            <a:ext cx="3974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متساوية الطاق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6680" y="4508640"/>
            <a:ext cx="14900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 ك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تالات فى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..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5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3573000"/>
            <a:ext cx="9144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فإن عدد مستوي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طاقة الفرعية التى تمتلىء بالإلكترونات 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80320" y="1844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7600" y="4683240"/>
            <a:ext cx="80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صر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إن توزيعه الإلكترون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لى الأوربيتالات يساوى .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8760" y="3644640"/>
            <a:ext cx="88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فرعى الذى يحتوى على ثلاثة أوريبتالات هو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, d, p, s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70880" y="206064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42520" y="5013360"/>
            <a:ext cx="48996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يبتالات فى المستوى الفرع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دل على وجود مستويات الطاقة الرئيس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لذرة وحددها بأرقام هو 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هايزنبرج – شرودنجر  - هوند – بو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07840" y="1351080"/>
            <a:ext cx="462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8040" y="4168800"/>
            <a:ext cx="9824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و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8344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قصى عدد من الإلكترونات ممكن أن يشغل مست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طاقة رئيسى يمكن حسابه من القانون ...........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0520" y="2657520"/>
            <a:ext cx="9352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عالم الذى استخدم مصطلح السحابة 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لوصف الأوريبتال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.... </a:t>
            </a:r>
            <a:br>
              <a:rPr sz="4000"/>
            </a:b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وند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زنبرج - شرودنجر - بور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دد الأوربيتالات فى مستوى الطاقة الرئيسية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 يساوى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2n &amp; ( 2n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6880" y="2063880"/>
            <a:ext cx="24422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شرودنج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5320" y="4416480"/>
            <a:ext cx="6530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55640" y="333360"/>
            <a:ext cx="7775640" cy="6191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عندما تكون الذرة فى حالتها المستقرة فإ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تروناتها ...........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قد طاقة                تكتسب طاقة                تشع ضوء باستمرار     لا تفقد ول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3251160"/>
            <a:ext cx="84344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ستوى الطاقة الرئيسى الثانى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يتشبع بعدد من الإلكترونات يساوى .........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245880" y="1935000"/>
            <a:ext cx="60908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ا تفقد ولا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تكتسب 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16920" y="4581360"/>
            <a:ext cx="45072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3959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المنهــــــــــل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فى الكيمياء </a:t>
            </a: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Arial"/>
              </a:rPr>
              <a:t>للثانوية العام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4360" y="260280"/>
            <a:ext cx="7775280" cy="619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565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ينتقل الإلكترون لمستوى طاقة أعلى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............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                يفقد كم من الطاقة                  يكتسب كم من الطاقة      لا يفقد ولا يكتسب طاق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شع ضوء باستمرا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70792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دد الكم المغناطيسى يحدد .........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عدد المستويات الفرعية                         عدد الأوربيتالات فى مستويات فرعية معينة  أقصى عدد من الإلكترونات يتشبع به المستوى الفرع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طبيعة حركة الإلكترون حول محو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754920" y="1127160"/>
            <a:ext cx="56124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يكتسب كم من الطا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2440" y="3789360"/>
            <a:ext cx="95184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أوربيتالات فى مستويات فرعية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836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طلح الحديث لإيجاد الإلكترون 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و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..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دور حول الذر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       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وجد فى مدارات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ول النوا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لكترونية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    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، جـ) معًا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ستوى الطاقة الرئيسى الخامس يتشبع بعدد من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لكترونات يساوى .......                       (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74680" y="1413000"/>
            <a:ext cx="744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360" y="4508640"/>
            <a:ext cx="780228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 يتواجد فى مناطق حول النواة يطلق عليها السحابة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Arabic Transparent"/>
              </a:rPr>
              <a:t>الإلكتر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0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التعديلات التى أدخلتها النظرية الحديثة على نظرية بور .......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بيعة المزدوجة للإلكترون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دأ عدم التأكد لهينزبرج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ـ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ادلة شرودنجر                            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د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ل ما سب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1640" y="3933720"/>
            <a:ext cx="2808000" cy="1312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د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كل ما سب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1915920"/>
            <a:ext cx="6626520" cy="2592360"/>
          </a:xfrm>
          <a:prstGeom prst="rect">
            <a:avLst/>
          </a:prstGeom>
          <a:gradFill rotWithShape="0">
            <a:gsLst>
              <a:gs pos="0">
                <a:srgbClr val="def6f1"/>
              </a:gs>
              <a:gs pos="100000">
                <a:srgbClr val="e9f54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000000"/>
                </a:solidFill>
                <a:latin typeface="Arial"/>
              </a:rPr>
              <a:t>علل لما يأتى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MPAUD8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لل تختلف الموجات المادية عن الموجات الكهرومغناطيسية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99736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ختلف الموجات المادية عن الموجات الكهرومغناطيسية ذلك لأن الموجات المادية لا تنفصل عن الجسم المتحرك وكذلك لأن سرعتها لا تساوى سرعة الضوء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علل لا يتنافر إلكتروني الأوربيتال الواحد رغم أنهما يحملان نفس نوع الشح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2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Arabic Transparent"/>
              </a:rPr>
              <a:t>لأن اتجاه المجال المغناطيسى الناشئ عن دوران أحد الإلكترونين حول محوره يعاكس اتجاه المجال المغناطيسى الناشئ عن دوران الالكترون الآخر حول محوره أيض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27160"/>
            <a:ext cx="822960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فضل الإلكترون أن يزدوج مع إلكترون آخر فى نفس المستوى الفرعى عن الانتقال إلى مستوى طاقة فرعى جدي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0040" y="2781360"/>
            <a:ext cx="8686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أوربيتال واحد عند الازدواج أقل من الطاقة اللازمة لنقل إلكترون من مستوى فرعى إلى المستوى الفرعى الذى يل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لا يتواجد الإلكترون الثامن فى ذرة الأكسجين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O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ى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s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204640"/>
            <a:ext cx="86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طاقة الناتجة من تنافر إلكتروني  الأوربيتال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p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عند الازدواج أقل من الطاقة اللازمة لنقل إلكترون من مستوى فرعى إلى المستوى الفرعى الذى يليه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-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شبع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إلكترونين بينما يتشبع المستوى الفرع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ست إلكترونات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080" y="2565360"/>
            <a:ext cx="89139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تشبع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إلكترونين لأنه يحتوى على أوربيتال واحد و الأوربيتال يتشبع بإلكترون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ينما يتشبع المستوى الفرع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بست إلكترونات لأنه يحتوى على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أوربيتالات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686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 ) عند ازدواج إلكترونين  فى أوربيتال واحد - فبالرغم من أن كلا منهما له حركة دوران مغزلية مضادة للآخر ، إلا أن هناك قوة تنافر بينهما تعمل على تقليل استقرار الذرة (زيادة طاقته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ب ) أما فى حالة الإلكترونات المفردة فتكون الذرة أكثر استقرارا ، لأن حركة الدوران المغزلية للإلكترونات المفردة تكون فى اتجاه واح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تفضل الإلكترونات أن تشغل الأوربيتالات مستقلة قبل أن تزدوج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532720" cy="2079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ر الإجابة الصحيح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WMPAUD9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594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948"/>
                            </p:stCondLst>
                            <p:childTnLst>
                              <p:par>
                                <p:cTn id="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948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8948"/>
                            </p:stCondLst>
                            <p:childTnLst>
                              <p:par>
                                <p:cTn id="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الطبيعة المزدوجة للإلكتر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760" y="2276280"/>
            <a:ext cx="8697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 جسيم مادى متحرك له خواص م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الإلكترونات تدور حول النواة بسرعة كبيرة وينشأ عن دورانها قوى طرد مركزية تعادل قوى الجذب المتبادلة بين  الإلكترونات والنواة  لأن هاتان القوتان متساويتان فى المقدار و متضادتان فى الاتجاه 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لا تسقط الإلكترونات داخل النوا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أن هذا أفضل من ناحية الطاقة حيث أن طاقة المستوى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 أقل من طاقة المستوى الفرعى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يملأ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قبل المستوى الفرع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360" y="1989000"/>
            <a:ext cx="8748720" cy="1430640"/>
          </a:xfrm>
          <a:prstGeom prst="rect">
            <a:avLst/>
          </a:prstGeom>
          <a:gradFill rotWithShape="0">
            <a:gsLst>
              <a:gs pos="0">
                <a:srgbClr val="1cde1c"/>
              </a:gs>
              <a:gs pos="100000">
                <a:srgbClr val="def6f1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000000"/>
                </a:solidFill>
                <a:latin typeface="Arial"/>
              </a:rPr>
              <a:t>أذكر المفهوم العلمى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WMPAUD8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ي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1628640"/>
            <a:ext cx="30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عدد الكم المغناطيس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781360"/>
            <a:ext cx="7510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مية محددة من الطاقة لا يمكن تجزئتها أو مضاعفت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708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لكترونات المستوى الفرعى الواحد تفضل شغل أوربيتالاته مستقلة قبل أن تزدو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قاعدة هو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كل جسم متحرك تصاحبه حركة موجية لها بعض خصائص الموجا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92280"/>
            <a:ext cx="22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دى بر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6040" y="2214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بد للإلكترونات أن تملأ المستويات الفرعية ذات الطاقة الأقل ثم المستويات الفرعية ذات الطاقة الأ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078000"/>
            <a:ext cx="3538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مبدأ البناء التصاعد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200" y="430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ذا تحرك جسم مشحون كهربيا فى مدار دائرى فإنه يفقد جزءا من طاقة حركته تدريجيا على  صورة اشعا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516640"/>
            <a:ext cx="2746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ظرية ماكسو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جموع عدد البروتونات والنيوترونات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125360"/>
            <a:ext cx="20271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كت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0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سالبة أو عدد البروتونات الموجبة الموجودة فى الذ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2852640"/>
            <a:ext cx="2374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عدد الذ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يستحيل عمليا تحديد مكان وسرعة الإلكترون معا فى وقت واح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1218960" y="4941000"/>
            <a:ext cx="126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حتمال تواجد الإلكترون بالفراغ المحيط بالنو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56040" y="3141720"/>
            <a:ext cx="38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بدأ عدم التأك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4640" y="56595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16000"/>
            <a:ext cx="8686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دار الطاقة المنطلقة أو المكتسبة عندما ينتقل إلكترون من مستوى طاقة إلى مستوى طاقة آخر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2200" y="21333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40824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عدد الأوربيتالات  التى يحتوى مستوى فرعى معين واتجاهاتها  الفراغ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2975040" y="3715560"/>
            <a:ext cx="149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 يحدد رتبة مستويات الطاقة الرئيسية و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6280" y="4563360"/>
            <a:ext cx="85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مستويات الطاقة الفرعية  فى كل مستوى و عدد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84280"/>
            <a:ext cx="143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الكم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63160" y="5661000"/>
            <a:ext cx="42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ثان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790920" y="313056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ناط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271080" y="4221000"/>
            <a:ext cx="459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رئ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د الكم الذى يحدد اتجاه دوران الإلكترون فى الأوربيت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عداد تحدد عدد الأوربيتالات فى كل مستوى فرعى من مستويات الطاقة واتجاهاتها وأشكال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4640" y="1125360"/>
            <a:ext cx="45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عدد الكم المغز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2560" y="349884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عداد الك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تحت المستوى  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f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.... =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10              * 6            *2               *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5960" y="170964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852640"/>
            <a:ext cx="822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- عدد الإلكترونات التى يتشبع بها المستوى الأساسى الثالث يساوى .... 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1480" y="4014720"/>
            <a:ext cx="94248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صر توزيعه الإلكترونى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s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EG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2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………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 ) ما العدد الذرى له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       ب ) اكتب التوزيع الإلكترونى منسوبا لأقرب غاز خام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ج ) وضح بمخطط توزيع إلكترونات المستوى الفرعى الأخير وفقا لقاعدة هون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1268280"/>
            <a:ext cx="860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–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تتميز ذرة عنصر بما يلى :-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# عدد مستويات الطاقة الرئيسية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              # عدد إلكترونات مستوى الطاقة الرئيسى الأخي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 أ ) اكتب التوزيع الإلكترونى الكامل لذرة هذا العنصر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(ب) ما عدد الإلكترونات المفردة فى مستوى الطاقة الأخير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– اشرح بإيجاز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أ - كيفية الحصول على أشعة المهبط .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   ب – تجربة رذرفورد التى أجراها كل     من جيجر و ماريسدن لاكتشاف تركيب الذرة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مستويات الفرعية لعنصر عدده الذرى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يساوى 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              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د توزيع الإلكترونات تطبق قاعدة هوند فى.....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لمستويات الفرع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المستويات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اوربيتالات المستوى الفرعى ال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 أوربيتالات المستوى الأساس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8320" y="1700280"/>
            <a:ext cx="66060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08640"/>
            <a:ext cx="597564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اوربيتالات المستوى الفرعى ال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ند انتقال الإلكترون من المستوى الطاقة الثانى إلى المستوى الطاقة الرابع فإنه يكتسب كمية من الطاقة مقدارها 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 * كوانتم 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            *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7280" y="1906560"/>
            <a:ext cx="2204640" cy="703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كوانت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خطوط الطيف للذرة المثارة ينتج من .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مستوى طاقة أقل إلى مستوى طاقة أعل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عودة الإلكترونات المثارة من مستويات الطاقة الاعلى إلى المستويات الادن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 انتقال الإلكترون المثار من المستوى الطاقة الاولى إلى المستوى الطاقة السابع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انتقال الإلكترون المثار من المستوى الطاقة الاولى إلى المستوى الطاقة الساد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5240" y="2338560"/>
            <a:ext cx="8604000" cy="1922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* عودة الإلكترونات المثارة من مستويات الطاقة الاعلى إلى المستويات الادن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2296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ظرية التى تقول أن الإلكترونات اثناء دورانها حول النواة فى الحالة المستقرة لا تشع طاقة هى نظرية .....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بور                   * ماكسويل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دى براولى           * شرودنج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4086360"/>
            <a:ext cx="822960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دد الإلكترونات التى يتشبع بها مستوى طاقة رئيسى  يساوى ......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مربع رقم المستوى           * ضعف مربع رقم المستوى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ضعف رقم المستوى          * رقم المستو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7040" y="2238480"/>
            <a:ext cx="1207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بو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512640" y="5079960"/>
            <a:ext cx="6073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ضعف مربع رقم المستو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ستوى الطاقة الفرعى المكون من خمس أوربيتالات هو.... </a:t>
            </a:r>
            <a:br>
              <a:rPr sz="4000"/>
            </a:b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*           p*                 s*          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068640"/>
            <a:ext cx="82296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عالم الذى قال أن كل جسم متحرك تصاحبه حركة موجية لها بعض  خصائص الموجات الضوئية هو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* بور                      * رذرفورد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* هيزنبرج              * دى براول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8400" y="4653000"/>
            <a:ext cx="2799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 دى برا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8440" y="1916280"/>
            <a:ext cx="6379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5:09:44Z</dcterms:created>
  <dc:creator>nahla</dc:creator>
  <dc:description/>
  <dc:language>en-US</dc:language>
  <cp:lastModifiedBy>BAC</cp:lastModifiedBy>
  <dcterms:modified xsi:type="dcterms:W3CDTF">2007-05-20T19:45:19Z</dcterms:modified>
  <cp:revision>26</cp:revision>
  <dc:subject/>
  <dc:title>تقويم الباب الأول</dc:title>
</cp:coreProperties>
</file>