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WMPAUD8.WAV" ContentType="audio/x-wav"/>
  <Override PartName="/ppt/media/WMPAUD9.WAV" ContentType="audio/x-wav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A2F-5895-43CB-B6C8-97218C65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DFEA-7C35-48F3-B483-A8C43237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0E00-15CF-4FD8-853C-135428CD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E63D-324E-4973-9188-4FCB91D5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8A52-6D69-4C4A-933E-A73BA507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DAF8-316B-4B84-B083-B7E72C80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418-61F7-43A9-AE7E-AF697780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41D6-8B96-476D-A773-3852CA41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147-B741-43F6-9F7A-98A0582B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CB2-01BB-4EC8-B429-F8DE9AE1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364-D0E7-44FD-A596-AA9A33CB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3DDF-39D3-472F-A7E2-032A7533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C20C-2F28-4BBE-9FC4-C7D34F9A5DFD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audio" Target="../media/WMPAUD9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8280360" cy="2808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9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ويم الباب الأول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99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6995"/>
                            </p:stCondLst>
                            <p:childTnLst>
                              <p:par>
                                <p:cTn id="1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8995"/>
                            </p:stCondLst>
                            <p:childTnLst>
                              <p:par>
                                <p:cTn id="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أثبت أن كل مستوى طاقه رئيسى يتكون من عدة مستويات طاقة فرعية أو تحت مستوي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سمرفيلد        * بور         * ماكسويل    * رذر فور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1920" y="2492280"/>
            <a:ext cx="24606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سمرفيل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طاقة الأوربيتالات تكون متساوية تقريباً فى أحد الحالات الآتية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أوربيتالات المستوى الفرع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أوربيتالات المستوى الأساس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الأوربيتالات التى تحتوى على نفس العدد من الإلكترون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d , 4d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أوربيتال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05560" y="1971720"/>
            <a:ext cx="803376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أ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قصى عدد لمستويات الطاقة الرئيسية فى أثقل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ذرات المعروفة هو ................. (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36320" y="3645000"/>
            <a:ext cx="4352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605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وربيتالات نفس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.........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شكل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ساوية الطاقة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81080" y="342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ندما ينتقل إلكترون من 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، فإنه يكتسب كمية من الطاقة تساوى ...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          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94480" y="1341360"/>
            <a:ext cx="3974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متساوية الطاق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6680" y="4508640"/>
            <a:ext cx="1490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 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60436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تالات فى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.....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5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573000"/>
            <a:ext cx="91440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فإن عدد مستوي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طاقة الفرعية التى تمتلىء بالإلكترونات 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80320" y="1844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77600" y="4683240"/>
            <a:ext cx="80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0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إن توزيعه الإلكترون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لى الأوربيتالات يساوى .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8760" y="3644640"/>
            <a:ext cx="8820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فرعى الذى يحتوى على ثلاثة أوريبتالات هو 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, d, p, s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70880" y="2060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42520" y="5013360"/>
            <a:ext cx="48996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يبتالات فى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دل على وجود مستويات الطاقة الرئيس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لذرة وحددها بأرقام هو 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هايزنبرج – شرودنجر  - هوند – بو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07840" y="135108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8040" y="4168800"/>
            <a:ext cx="98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و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8344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قصى عدد من الإلكترونات ممكن أن يشغل مست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طاقة رئيسى يمكن حسابه من القانون ...........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60520" y="2657520"/>
            <a:ext cx="9352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خدم مصطلح السحابة 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وصف الأوريبتال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....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ند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يزنبرج - شرودنجر - بور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(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يتالات فى مستوى الطاقة الرئيسية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يسا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6880" y="2063880"/>
            <a:ext cx="24422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شرودنج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35320" y="4416480"/>
            <a:ext cx="6530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5640" y="333360"/>
            <a:ext cx="7775640" cy="6191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دما تكون الذرة فى حالتها المستقرة فإ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تروناتها ...........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قد طاقة                تكتسب طاقة                تشع ضوء باستمرار     لا تفقد ول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3251160"/>
            <a:ext cx="843444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رئيسى الثانى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تشبع بعدد من الإلكترونات يساوى .........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245880" y="1935000"/>
            <a:ext cx="60908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ا تفقد ولا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16920" y="4581360"/>
            <a:ext cx="45072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959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المنهــــــــــل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فى الكيمياء 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للثانوية العام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4360" y="260280"/>
            <a:ext cx="7775280" cy="619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ينتقل الإلكترون لمستوى طاقة أعلى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............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                  يفقد كم من الطاقة                  يكتسب كم من الطاقة      لا يفقد ولا يكتسب طاق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شع ضوء باستمر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7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دد الكم المغناطيسى يحدد .........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عدد المستويات الفرعية                         عدد الأوربيتالات فى مستويات فرعية معينة  أقصى عدد من الإلكترونات يتشبع به المستوى الفرع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طبيعة حركة الإلكترون حول محو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754920" y="1127160"/>
            <a:ext cx="56124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يكتسب كم من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2440" y="3789360"/>
            <a:ext cx="95184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دد الأوربيتالات فى مستويات فرعية معي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8362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طلح الحديث لإيجاد الإلكترون 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و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دور حول الذر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       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وجد فى مدار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، جـ) معً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ستوى الطاقة الرئيسى الخامس يتشبع بعدد م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إلكترونات يساوى .......                      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74680" y="1413000"/>
            <a:ext cx="744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360" y="4508640"/>
            <a:ext cx="780228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01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 التعديلات التى أدخلتها النظرية الحديثة على نظرية بور 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بيعة المزدوجة للإلكترون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بدأ عدم التأكد لهينزبرج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ادلة شرودنجر       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ل ما سب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3933720"/>
            <a:ext cx="2808000" cy="1312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د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كل ما سب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1915920"/>
            <a:ext cx="6626520" cy="2592360"/>
          </a:xfrm>
          <a:prstGeom prst="rect">
            <a:avLst/>
          </a:prstGeom>
          <a:gradFill rotWithShape="0">
            <a:gsLst>
              <a:gs pos="0">
                <a:srgbClr val="def6f1"/>
              </a:gs>
              <a:gs pos="100000">
                <a:srgbClr val="e9f54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000000"/>
                </a:solidFill>
                <a:latin typeface="Arial"/>
              </a:rPr>
              <a:t>علل لما يأتى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MPAUD8.WAV"/>
      </p:stSnd>
    </p:sndAc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لل تختلف الموجات المادية عن الموجات الكهرومغناطيسية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99736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ختلف الموجات المادية عن الموجات الكهرومغناطيسية ذلك لأن الموجات المادية لا تنفصل عن الجسم المتحرك وكذلك لأن سرعتها لا تساوى سرعة الضوء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- علل لا يتنافر إلكتروني الأوربيتال الواحد رغم أنهما يحملان نفس نوع الشحن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421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Arabic Transparent"/>
              </a:rPr>
              <a:t>لأن اتجاه المجال المغناطيسى الناشئ عن دوران أحد الإلكترونين حول محوره يعاكس اتجاه المجال المغناطيسى الناشئ عن دوران الالكترون الآخر حول محوره أيض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227160"/>
            <a:ext cx="822960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فضل الإلكترون أن يزدوج مع إلكترون آخر فى نفس المستوى الفرعى عن الانتقال إلى مستوى طاقة فرعى جدي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0040" y="2781360"/>
            <a:ext cx="8686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أوربيتال واحد عند الازدواج أقل من الطاقة اللازمة لنقل إلكترون من مستوى فرعى إلى المستوى الفرعى الذى يل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لا يتواجد الإلكترون الثامن فى ذرة الأكسجين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O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ى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s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0040" y="2204640"/>
            <a:ext cx="8686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الأوربيتال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عند الازدواج أقل من الطاقة اللازمة لنقل إلكترون من مستوى فرعى إلى المستوى الفرعى الذى يليه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شبع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إلكترونين بينما يتشبع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ست إلكترونات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080" y="2565360"/>
            <a:ext cx="89139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يتشبع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إلكترونين لأنه يحتوى على أوربيتال واحد و الأوربيتال يتشبع بإلكترون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ينما يتشبع المستوى الفرع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ست إلكترونات لأنه يحتوى على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أوربيتالات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2276280"/>
            <a:ext cx="8686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 ) عند ازدواج إلكترونين  فى أوربيتال واحد - فبالرغم من أن كلا منهما له حركة دوران مغزلية مضادة للآخر ، إلا أن هناك قوة تنافر بينهما تعمل على تقليل استقرار الذرة (زيادة طاقته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ب ) أما فى حالة الإلكترونات المفردة فتكون الذرة أكثر استقرارا ، لأن حركة الدوران المغزلية للإلكترونات المفردة تكون فى اتجاه واح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ضل الإلكترونات أن تشغل الأوربيتالات مستقلة قبل أن تزدوج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532720" cy="2079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ر الإجابة الصحيح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WMPAUD9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594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948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948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8948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الطبيعة المزدوجة للإلكتر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760" y="2276280"/>
            <a:ext cx="86979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 جسيم مادى متحرك له خواص موج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ات تدور حول النواة بسرعة كبيرة وينشأ عن دورانها قوى طرد مركزية تعادل قوى الجذب المتبادلة بين  الإلكترونات والنواة  لأن هاتان القوتان متساويتان فى المقدار و متضادتان فى الاتجاه 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لا تسقط الإلكترونات داخل النوا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8937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هذا أفضل من ناحية الطاقة حيث أن طاقة المستوى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 أقل من طاقة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ملأ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قبل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360" y="1989000"/>
            <a:ext cx="8748720" cy="1430640"/>
          </a:xfrm>
          <a:prstGeom prst="rect">
            <a:avLst/>
          </a:prstGeom>
          <a:gradFill rotWithShape="0">
            <a:gsLst>
              <a:gs pos="0">
                <a:srgbClr val="1cde1c"/>
              </a:gs>
              <a:gs pos="100000">
                <a:srgbClr val="def6f1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000000"/>
                </a:solidFill>
                <a:latin typeface="Arial"/>
              </a:rPr>
              <a:t>أذكر المفهوم العلمى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MPAUD8.WAV"/>
      </p:stSnd>
    </p:sndAc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ي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1628640"/>
            <a:ext cx="30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عدد الكم المغناطيس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781360"/>
            <a:ext cx="7510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مية محددة من الطاقة لا يمكن تجزئتها أو مضاعفت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708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لكترونات المستوى الفرعى الواحد تفضل شغل أوربيتالاته مستقلة قبل أن تزدو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4797360"/>
            <a:ext cx="216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قاعدة هو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ل جسم متحرك تصاحبه حركة موجية لها بعض خصائص الموج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692280"/>
            <a:ext cx="22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دى بر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040" y="2214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بد للإلكترونات أن تملأ المستويات الفرعية ذات الطاقة الأقل ثم المستويات الفرعية ذات الطاقة الأ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078000"/>
            <a:ext cx="35384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البناء التصاعد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ذا تحرك جسم مشحون كهربيا فى مدار دائرى فإنه يفقد جزءا من طاقة حركته تدريجيا على  صورة اشعا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516640"/>
            <a:ext cx="2746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نظرية ماكسوي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جموع عدد البروتونات والنيوترونات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125360"/>
            <a:ext cx="20271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كت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0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سالبة أو عدد البروتونات الموجبة الموجودة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2852640"/>
            <a:ext cx="2374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ذ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يستحيل عمليا تحديد مكان وسرعة الإلكترون معا فى وقت واح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218960" y="4941000"/>
            <a:ext cx="126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حتمال تواجد الإلكترون بالفراغ المحيط بالنوا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356040" y="3141720"/>
            <a:ext cx="388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مبدأ عدم التأك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4640" y="565956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16000"/>
            <a:ext cx="8686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مقدار الطاقة المنطلقة أو المكتسبة عندما ينتقل إلكترون من مستوى طاقة إلى مستوى طاقة آخر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92200" y="213336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4082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عدد الأوربيتالات  التى يحتوى مستوى فرعى معين واتجاهاتها  الفراغي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2975040" y="3715560"/>
            <a:ext cx="149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 يحدد رتبة مستويات الطاقة الرئيسية و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6280" y="4563360"/>
            <a:ext cx="856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مستويات الطاقة الفرعية  فى كل مستوى و 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84280"/>
            <a:ext cx="143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63160" y="5661000"/>
            <a:ext cx="42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ثان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790920" y="313056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ناط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271080" y="4221000"/>
            <a:ext cx="459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رئ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اتجاه دوران الإلكترون فى 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عداد ت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4640" y="1125360"/>
            <a:ext cx="45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ز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2560" y="349884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أعداد الك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تحت المستوى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f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.... =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10              * 6            *2               *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5960" y="170964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85264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المستوى الأساسى الثالث يساوى .... 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41480" y="401472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صر توزيعه الإلكترون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………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d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 ) ما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       ب ) اكتب التوزيع الإلكترونى منسوبا لأقرب غاز خامل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 ) وضح بمخطط توزيع إلكترونات المستوى الفرعى الأخير وفقا لقاعدة هون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0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تتميز ذرة عنصر بما يلى :-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# عدد مستويات الطاقة الرئيسية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# عدد إلكترونات مستوى الطاقة الرئيسى الأخي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 أ ) اكتب التوزيع الإلكترونى الكامل لذرة هذا العنص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ب) ما عدد الإلكترونات المفردة فى مستوى الطاقة الأخير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748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– اشرح بإيج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أ - كيفية الحصول على أشعة المهبط 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ب – تجربة رذرفورد التى أجراها كل     من جيجر و ماريسدن لاكتشاف تركيب الذرة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مستويات الفرعية لعنصر عدده الذرى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ساوى 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ند توزيع الإلكترونات تطبق قاعدة هوند فى.......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لمستويات الفرع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المستويات الرئيس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وربيتالات المستوى الفرعى الواح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أوربيتالات المستوى الأساس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8320" y="1700280"/>
            <a:ext cx="660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508640"/>
            <a:ext cx="5975640" cy="1191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ا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ند انتقال الإلكترون من المستوى الطاقة الثانى إلى المستوى الطاقة الرابع فإنه يكتسب كمية من الطاقة مقدارها 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 * كوانت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7280" y="1906560"/>
            <a:ext cx="22046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خطوط الطيف للذرة المثارة ينتج من .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مستوى طاقة أقل إلى مستوى طاقة أعل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عودة الإلكترونات المثارة من مستويات الطاقة الاعلى إلى المستويات الادن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 انتقال الإلكترون المثار من المستوى الطاقة الاولى إلى المستوى الطاقة السابع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المستوى الطاقة الاولى إلى المستوى الطاقة الساد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240" y="2338560"/>
            <a:ext cx="860400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عودة الإلكترونات المثارة من مستويات الطاقة الاعلى إلى المستويات الادن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22960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ظرية التى تقول أن الإلكترونات اثناء دورانها حول النواة فى الحالة المستقرة لا تشع طاقة هى نظرية .....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بور                   * ماكسويل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دى براولى           * شرودنج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6040" y="4086360"/>
            <a:ext cx="822960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تى يتشبع بها مستوى طاقة رئيسى  يساوى 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مربع رقم المستوى           * ضعف مربع رقم المستو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ضعف رقم المستوى          * رقم المست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7040" y="2238480"/>
            <a:ext cx="12078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بو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512640" y="5079960"/>
            <a:ext cx="6073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ضعف مربع رقم المستو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ستوى الطاقة الفرعى المكون من خمس أوربيتال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d*           p*                 s*          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068640"/>
            <a:ext cx="822960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قال أن كل جسم متحرك تصاحبه حركة موجية لها بعض  خصائص الموجات الضوئية هو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* بور                      * رذرفورد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هيزنبرج              * دى براو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18400" y="4653000"/>
            <a:ext cx="27990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دى براو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38440" y="1916280"/>
            <a:ext cx="637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5:09:44Z</dcterms:created>
  <dc:creator>nahla</dc:creator>
  <dc:description/>
  <dc:language>en-US</dc:language>
  <cp:lastModifiedBy>BAC</cp:lastModifiedBy>
  <dcterms:modified xsi:type="dcterms:W3CDTF">2007-05-20T19:45:19Z</dcterms:modified>
  <cp:revision>26</cp:revision>
  <dc:subject/>
  <dc:title>تقويم الباب الأول</dc:title>
</cp:coreProperties>
</file>