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WMPAUD8.WAV" ContentType="audio/x-wav"/>
  <Override PartName="/ppt/media/WMPAUD9.WAV" ContentType="audio/x-wav"/>
  <Override PartName="/ppt/media/image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949EA-1309-4DE8-89F1-6C1D12C50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E2F50-2EA0-4FEF-99C8-24FF3507D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ACC0A-E513-457E-B9D7-36073B2E9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A5ABA-6A6A-49AE-8AD8-6E8E50353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35CA5-E83A-46C4-80F9-BBEAA9228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74403-73FF-4472-B2F7-3D6DC9925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6AC7D-E679-4B9D-B029-E927F0465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60CD5-CAAE-434E-989C-8486EDF23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8696E-FEEF-4516-BBF8-D1D7C810D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DCB2E-6215-4409-A761-59564D840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82304-4F1B-4E29-BAF5-3E492A7A1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83F73-A33C-47C8-8A23-9D25FB44F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EG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2127C-4B2B-476F-B5F3-776CD1B6AEED}" type="slidenum">
              <a:rPr b="0" lang="ar-EG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audio" Target="../media/WMPAUD8.WAV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png"/><Relationship Id="rId3" Type="http://schemas.openxmlformats.org/officeDocument/2006/relationships/audio" Target="../media/WMPAUD9.WAV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audio" Target="../media/WMPAUD8.WAV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000" y="1844280"/>
            <a:ext cx="8280360" cy="280836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29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تقويم الباب الأول</a:t>
            </a:r>
            <a:endParaRPr b="0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55640" y="5805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56995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2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mph" presetID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Rot by="21600000">
                                      <p:cBhvr>
                                        <p:cTn id="13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6995"/>
                            </p:stCondLst>
                            <p:childTnLst>
                              <p:par>
                                <p:cTn id="15" nodeType="afterEffect" fill="hold" presetClass="exit" presetID="21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heel(4)" transition="out">
                                      <p:cBhvr additive="repl">
                                        <p:cTn id="16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58995"/>
                            </p:stCondLst>
                            <p:childTnLst>
                              <p:par>
                                <p:cTn id="19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1341360"/>
            <a:ext cx="8229600" cy="179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العالم الذى أثبت أن كل مستوى طاقه رئيسى يتكون من عدة مستويات طاقة فرعية أو تحت مستويات هو.... 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* سمرفيلد        * بور         * ماكسويل    * رذر فورد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631920" y="2492280"/>
            <a:ext cx="2460600" cy="64260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* سمرفيل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9640" y="764640"/>
            <a:ext cx="82296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طاقة الأوربيتالات تكون متساوية تقريباً فى أحد الحالات الآتية.... 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*أوربيتالات المستوى الفرعى الواحد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* أوربيتالات المستوى الأساسى الواحد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* الأوربيتالات التى تحتوى على نفس العدد من الإلكترونات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*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3d , 4d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الأوربيتالات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005560" y="1971720"/>
            <a:ext cx="8033760" cy="64260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*أوربيتالات المستوى الفرعى الواح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684360" y="31413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أقصى عدد لمستويات الطاقة الرئيسية فى أثقل</a:t>
            </a:r>
            <a:r>
              <a:rPr b="1" lang="ar-EG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الذرات المعروفة هو ................. ( 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 ، 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 ، 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  ، </a:t>
            </a:r>
            <a:r>
              <a:rPr b="1" lang="ar-EG" sz="36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ar-EG" sz="3600" spc="-1" strike="noStrike">
                <a:solidFill>
                  <a:srgbClr val="000000"/>
                </a:solidFill>
                <a:latin typeface="Arial"/>
              </a:rPr>
              <a:t> 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236320" y="3645000"/>
            <a:ext cx="435240" cy="64260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50560" y="476280"/>
            <a:ext cx="860580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أوربيتالات نفس المستوى الفرعى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    ..........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    </a:t>
            </a:r>
            <a:br>
              <a:rPr sz="4000"/>
            </a:b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*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مختلفة الشكل          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*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متساوية الطاقة           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*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مختلفة الطاق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-181080" y="342900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عندما ينتقل إلكترون من مستوى الطاقة</a:t>
            </a:r>
            <a:r>
              <a:rPr b="1" lang="ar-EG" sz="36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ar-EG" sz="36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إلى</a:t>
            </a:r>
            <a:r>
              <a:rPr b="1" lang="ar-EG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مستوى الطاقة</a:t>
            </a:r>
            <a:r>
              <a:rPr b="1" lang="ar-EG" sz="36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ar-EG" sz="3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، فإنه يكتسب كمية من الطاقة تساوى .....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 كم          * 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 كم</a:t>
            </a:r>
            <a:r>
              <a:rPr b="1" lang="ar-EG" sz="36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ar-EG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ك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94480" y="1341360"/>
            <a:ext cx="3974040" cy="64260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0000"/>
                </a:solidFill>
                <a:latin typeface="Arial"/>
              </a:rPr>
              <a:t>* متساوية الطاق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206680" y="4508640"/>
            <a:ext cx="1490040" cy="64260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0000"/>
                </a:solidFill>
                <a:latin typeface="Arial"/>
              </a:rPr>
              <a:t>* </a:t>
            </a:r>
            <a:r>
              <a:rPr b="1" lang="ar-SA" sz="36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ar-SA" sz="3600" spc="-1" strike="noStrike">
                <a:solidFill>
                  <a:srgbClr val="ff0000"/>
                </a:solidFill>
                <a:latin typeface="Arial"/>
              </a:rPr>
              <a:t> ك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9280" y="981000"/>
            <a:ext cx="8604360" cy="179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عدد الأوربتالات فى المستوى الفرعى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.........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d </a:t>
            </a:r>
            <a:br>
              <a:rPr sz="4000"/>
            </a:b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*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1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*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3          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*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5          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*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0" y="3573000"/>
            <a:ext cx="914400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عنصر العدد الذرى له (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) فإن عدد مستويات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الطاقة الفرعية التى تمتلىء بالإلكترونات هو 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.....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4012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*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*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*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*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080320" y="1844640"/>
            <a:ext cx="462600" cy="70344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077600" y="4683240"/>
            <a:ext cx="802440" cy="70344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0000"/>
                </a:solidFill>
                <a:latin typeface="Arial"/>
              </a:rPr>
              <a:t>*</a:t>
            </a:r>
            <a:r>
              <a:rPr b="0" lang="ar-EG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ar-SA" sz="40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3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9640" y="764640"/>
            <a:ext cx="8229600" cy="20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عنصر العدد الذرى له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17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فإن توزيعه الإلكترونى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على الأوربيتالات يساوى ...........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( 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  ،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  ،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 ،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58760" y="3644640"/>
            <a:ext cx="8820000" cy="20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مستوى الطاقة الفرعى الذى يحتوى على ثلاثة أوريبتالات هو ......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, d, p, s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870880" y="2060640"/>
            <a:ext cx="462600" cy="70344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742520" y="5013360"/>
            <a:ext cx="489960" cy="70344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3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6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50920" y="475920"/>
            <a:ext cx="8604000" cy="18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عدد الأوريبتالات فى المستوى الفرعى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5f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هو 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..... (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، 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،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،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)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2997360"/>
            <a:ext cx="8229600" cy="20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العالم الذى استدل على وجود مستويات الطاقة الرئيسية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للذرة وحددها بأرقام هو .........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916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(هايزنبرج – شرودنجر  - هوند – بور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107840" y="1351080"/>
            <a:ext cx="462600" cy="70344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048040" y="4168800"/>
            <a:ext cx="982440" cy="70344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Arial"/>
              </a:rPr>
              <a:t>بو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5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1268280"/>
            <a:ext cx="8834400" cy="22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أقصى عدد من الإلكترونات ممكن أن يشغل مستوى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طاقة رئيسى يمكن حسابه من القانون ............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n</a:t>
            </a:r>
            <a:r>
              <a:rPr b="1" lang="en-US" sz="4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&amp; 2n &amp; ( 2n)</a:t>
            </a:r>
            <a:r>
              <a:rPr b="1" lang="en-US" sz="4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&amp; n</a:t>
            </a:r>
            <a:r>
              <a:rPr b="1" lang="en-US" sz="4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260520" y="2657520"/>
            <a:ext cx="935280" cy="70344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2n</a:t>
            </a:r>
            <a:r>
              <a:rPr b="1" lang="en-US" sz="40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836640"/>
            <a:ext cx="91440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العالم الذى استخدم مصطلح السحابة الإلكترونية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لوصف الأوريبتال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.... </a:t>
            </a:r>
            <a:br>
              <a:rPr sz="4000"/>
            </a:b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)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هوند 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هيزنبرج - شرودنجر - بور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(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3068280"/>
            <a:ext cx="8229600" cy="30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عدد الأوربيتالات فى مستوى الطاقة الرئيسية (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) يساوى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....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n</a:t>
            </a:r>
            <a:r>
              <a:rPr b="1" lang="en-US" sz="4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&amp; 2n &amp; ( 2n)</a:t>
            </a:r>
            <a:r>
              <a:rPr b="1" lang="en-US" sz="4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&amp; n</a:t>
            </a:r>
            <a:r>
              <a:rPr b="1" lang="en-US" sz="4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566880" y="2063880"/>
            <a:ext cx="2442240" cy="70344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Arial"/>
                <a:cs typeface="Arabic Transparent"/>
              </a:rPr>
              <a:t>شرودنج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735320" y="4416480"/>
            <a:ext cx="653040" cy="70344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n</a:t>
            </a:r>
            <a:r>
              <a:rPr b="1" lang="en-US" sz="40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7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755640" y="333360"/>
            <a:ext cx="7775640" cy="619128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23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عندما تكون الذرة فى حالتها المستقرة فإن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الكتروناتها ...........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تفقد طاقة                تكتسب طاقة                تشع ضوء باستمرار     لا تفقد ولا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تكتسب طاق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68000" y="3251160"/>
            <a:ext cx="8434440" cy="28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مستوى الطاقة الرئيسى الثانى (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يتشبع بعدد من الإلكترونات يساوى ..........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 (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، 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،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18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،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32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-245880" y="1935000"/>
            <a:ext cx="6090840" cy="70344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Arial"/>
              </a:rPr>
              <a:t>لا تفقد ولا</a:t>
            </a:r>
            <a:r>
              <a:rPr b="1" lang="ar-EG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ar-SA" sz="4000" spc="-1" strike="noStrike">
                <a:solidFill>
                  <a:srgbClr val="ff0000"/>
                </a:solidFill>
                <a:latin typeface="Arial"/>
              </a:rPr>
              <a:t>تكتسب طاق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216920" y="4581360"/>
            <a:ext cx="450720" cy="70344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7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9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341360"/>
            <a:ext cx="8229600" cy="39592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000000"/>
                </a:solidFill>
                <a:latin typeface="Arial"/>
              </a:rPr>
              <a:t>المنهــــــــــل</a:t>
            </a:r>
            <a:br>
              <a:rPr sz="8000"/>
            </a:br>
            <a:r>
              <a:rPr b="0" lang="ar-SA" sz="8000" spc="-1" strike="noStrike">
                <a:solidFill>
                  <a:srgbClr val="000000"/>
                </a:solidFill>
                <a:latin typeface="Arial"/>
              </a:rPr>
              <a:t>فى الكيمياء </a:t>
            </a:r>
            <a:br>
              <a:rPr sz="8000"/>
            </a:br>
            <a:r>
              <a:rPr b="0" lang="ar-SA" sz="8000" spc="-1" strike="noStrike">
                <a:solidFill>
                  <a:srgbClr val="000000"/>
                </a:solidFill>
                <a:latin typeface="Arial"/>
              </a:rPr>
              <a:t>للثانوية العامة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684360" y="260280"/>
            <a:ext cx="7775280" cy="619128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10920" y="260280"/>
            <a:ext cx="815652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 rt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عندما ينتقل الإلكترون لمستوى طاقة أعلى</a:t>
            </a:r>
            <a:r>
              <a:rPr b="0" lang="ar-EG" sz="3600" spc="-1" strike="noStrike">
                <a:solidFill>
                  <a:srgbClr val="000000"/>
                </a:solidFill>
                <a:latin typeface="Arial"/>
              </a:rPr>
              <a:t> ............ 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                      يفقد كم من الطاقة                  يكتسب كم من الطاقة      لا يفقد ولا يكتسب طاقة</a:t>
            </a:r>
            <a:r>
              <a:rPr b="0" lang="ar-EG" sz="36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يشع ضوء باستمرار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55640" y="2707920"/>
            <a:ext cx="77868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عدد الكم المغناطيسى يحدد ......... </a:t>
            </a:r>
            <a:br>
              <a:rPr sz="3600"/>
            </a:b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  عدد المستويات الفرعية                         عدد الأوربيتالات فى مستويات فرعية معينة  أقصى عدد من الإلكترونات يتشبع به المستوى الفرعى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    طبيعة حركة الإلكترون حول محور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-754920" y="1127160"/>
            <a:ext cx="5612400" cy="70344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Arial"/>
                <a:cs typeface="Arabic Transparent"/>
              </a:rPr>
              <a:t>يكتسب كم من الطاق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72440" y="3789360"/>
            <a:ext cx="9518400" cy="64260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0000"/>
                </a:solidFill>
                <a:latin typeface="Arial"/>
              </a:rPr>
              <a:t>عدد الأوربيتالات فى مستويات فرعية معين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9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0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9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324000" y="2133360"/>
            <a:ext cx="8362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0" algn="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مصطلح الحديث لإيجاد الإلكترون حول النواة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هو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..........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أ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-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إلكترون يدور حول الذرة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.                                    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ب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-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إلكترون يوجد فى مدارات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حول النواة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.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جـ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-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إلكترون يتواجد فى مناطق حول النواة يطلق عليها السحابة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إلكترونية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.          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53800" indent="0" algn="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د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- (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ب، جـ) معًا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.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title"/>
          </p:nvPr>
        </p:nvSpPr>
        <p:spPr>
          <a:xfrm>
            <a:off x="611280" y="259920"/>
            <a:ext cx="822960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r" rt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مستوى الطاقة الرئيسى الخامس يتشبع بعدد من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الإلكترونات يساوى .......                       (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، 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18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،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32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،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72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574680" y="1413000"/>
            <a:ext cx="744480" cy="70344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0000"/>
                </a:solidFill>
                <a:latin typeface="Arial"/>
              </a:rPr>
              <a:t>3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57360" y="4508640"/>
            <a:ext cx="7802280" cy="192240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Arial"/>
                <a:cs typeface="Arabic Transparent"/>
              </a:rPr>
              <a:t>جـ</a:t>
            </a:r>
            <a:r>
              <a:rPr b="1" lang="ar-EG" sz="4000" spc="-1" strike="noStrike">
                <a:solidFill>
                  <a:srgbClr val="ff0000"/>
                </a:solidFill>
                <a:latin typeface="Arial"/>
                <a:ea typeface="Arabic Transparent"/>
              </a:rPr>
              <a:t>- </a:t>
            </a:r>
            <a:r>
              <a:rPr b="1" lang="ar-SA" sz="4000" spc="-1" strike="noStrike">
                <a:solidFill>
                  <a:srgbClr val="ff0000"/>
                </a:solidFill>
                <a:latin typeface="Arial"/>
                <a:cs typeface="Arabic Transparent"/>
              </a:rPr>
              <a:t>الإلكترون يتواجد فى مناطق حول النواة يطلق عليها السحابة</a:t>
            </a:r>
            <a:r>
              <a:rPr b="1" lang="ar-EG" sz="4000" spc="-1" strike="noStrike">
                <a:solidFill>
                  <a:srgbClr val="ff0000"/>
                </a:solidFill>
                <a:latin typeface="Arial"/>
                <a:ea typeface="Arabic Transparent"/>
              </a:rPr>
              <a:t> </a:t>
            </a:r>
            <a:r>
              <a:rPr b="1" lang="ar-SA" sz="4000" spc="-1" strike="noStrike">
                <a:solidFill>
                  <a:srgbClr val="ff0000"/>
                </a:solidFill>
                <a:latin typeface="Arial"/>
                <a:cs typeface="Arabic Transparent"/>
              </a:rPr>
              <a:t>الإلكتروني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1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2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9280" y="620280"/>
            <a:ext cx="810108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	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من التعديلات التى أدخلتها النظرية الحديثة على نظرية بور ........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أ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-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طبيعة المزدوجة للإلكترون                     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ب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-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مبدأ عدم التأكد لهينزبرج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جـ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-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معادلة شرودنجر                            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د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-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كل ما سبق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651640" y="3933720"/>
            <a:ext cx="2808000" cy="131292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Arial"/>
              </a:rPr>
              <a:t>د</a:t>
            </a:r>
            <a:r>
              <a:rPr b="1" lang="ar-EG" sz="4000" spc="-1" strike="noStrike">
                <a:solidFill>
                  <a:srgbClr val="ff0000"/>
                </a:solidFill>
                <a:latin typeface="Arial"/>
              </a:rPr>
              <a:t>- </a:t>
            </a:r>
            <a:r>
              <a:rPr b="1" lang="ar-SA" sz="4000" spc="-1" strike="noStrike">
                <a:solidFill>
                  <a:srgbClr val="ff0000"/>
                </a:solidFill>
                <a:latin typeface="Arial"/>
              </a:rPr>
              <a:t>كل ما سب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6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86920" y="1915920"/>
            <a:ext cx="6626520" cy="2592360"/>
          </a:xfrm>
          <a:prstGeom prst="rect">
            <a:avLst/>
          </a:prstGeom>
          <a:gradFill rotWithShape="0">
            <a:gsLst>
              <a:gs pos="0">
                <a:srgbClr val="def6f1"/>
              </a:gs>
              <a:gs pos="100000">
                <a:srgbClr val="e9f54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1700" spc="-1" strike="noStrike">
                <a:solidFill>
                  <a:srgbClr val="000000"/>
                </a:solidFill>
                <a:latin typeface="Arial"/>
              </a:rPr>
              <a:t>علل لما يأتى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  <p:sndAc>
      <p:stSnd>
        <p:snd r:embed="rId1" name="WMPAUD8.WAV"/>
      </p:stSnd>
    </p:sndAc>
  </p:transition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0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withEffect" fill="hold" presetClass="entr" presetID="29">
                                  <p:stCondLst>
                                    <p:cond delay="1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5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2000"/>
                            </p:stCondLst>
                            <p:childTnLst>
                              <p:par>
                                <p:cTn id="347" nodeType="afterEffect" fill="hold" presetClass="emph" presetID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Rot by="21600000">
                                      <p:cBhvr>
                                        <p:cTn id="348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4000"/>
                            </p:stCondLst>
                            <p:childTnLst>
                              <p:par>
                                <p:cTn id="350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35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352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53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54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355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0" y="11250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1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- علل تختلف الموجات المادية عن الموجات الكهرومغناطيسية 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39640" y="2997360"/>
            <a:ext cx="8229600" cy="19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0000"/>
                </a:solidFill>
                <a:latin typeface="Times New Roman"/>
                <a:cs typeface="Traditional Arabic"/>
              </a:rPr>
              <a:t>تختلف الموجات المادية عن الموجات الكهرومغناطيسية ذلك لأن الموجات المادية لا تنفصل عن الجسم المتحرك وكذلك لأن سرعتها لا تساوى سرعة الضوء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2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 - علل لا يتنافر إلكتروني الأوربيتال الواحد رغم أنهما يحملان نفس نوع الشحن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95280" y="2421000"/>
            <a:ext cx="822960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0000"/>
                </a:solidFill>
                <a:latin typeface="Times New Roman"/>
                <a:cs typeface="Arabic Transparent"/>
              </a:rPr>
              <a:t>لأن اتجاه المجال المغناطيسى الناشئ عن دوران أحد الإلكترونين حول محوره يعاكس اتجاه المجال المغناطيسى الناشئ عن دوران الالكترون الآخر حول محوره أيضا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11280" y="227160"/>
            <a:ext cx="8229600" cy="21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يفضل الإلكترون أن يزدوج مع إلكترون آخر فى نفس المستوى الفرعى عن الانتقال إلى مستوى طاقة فرعى جديد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30040" y="2781360"/>
            <a:ext cx="8686800" cy="25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Arial"/>
              </a:rPr>
              <a:t>لأن الطاقة الناتجة من تنافر إلكتروني  أوربيتال واحد عند الازدواج أقل من الطاقة اللازمة لنقل إلكترون من مستوى فرعى إلى المستوى الفرعى الذى يلي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4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–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لا يتواجد الإلكترون الثامن فى ذرة الأكسجين 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Arial"/>
                <a:ea typeface="Arabic Transparent"/>
              </a:rPr>
              <a:t>8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O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فى المستوى الفرعى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3s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0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30040" y="2204640"/>
            <a:ext cx="8686800" cy="30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r" rtl="1"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Arial"/>
              </a:rPr>
              <a:t>لأن الطاقة الناتجة من تنافر إلكتروني  الأوربيتال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2p</a:t>
            </a:r>
            <a:r>
              <a:rPr b="1" lang="ar-SA" sz="4000" spc="-1" strike="noStrike">
                <a:solidFill>
                  <a:srgbClr val="ff0000"/>
                </a:solidFill>
                <a:latin typeface="Arial"/>
              </a:rPr>
              <a:t> عند الازدواج أقل من الطاقة اللازمة لنقل إلكترون من مستوى فرعى إلى المستوى الفرعى الذى يليه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3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1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7" dur="4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4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18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5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-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يتشبع المستوى الفرعى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S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بإلكترونين بينما يتشبع المستوى الفرعى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p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بست إلكترونات 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0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2080" y="2565360"/>
            <a:ext cx="8913960" cy="27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r" rtl="1"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Arial"/>
              </a:rPr>
              <a:t>يتشبع المستوى الفرعى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ar-EG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ar-SA" sz="4000" spc="-1" strike="noStrike">
                <a:solidFill>
                  <a:srgbClr val="ff0000"/>
                </a:solidFill>
                <a:latin typeface="Arial"/>
              </a:rPr>
              <a:t>بإلكترونين لأنه يحتوى على أوربيتال واحد و الأوربيتال يتشبع بإلكتروني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 algn="r" rtl="1"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Arial"/>
              </a:rPr>
              <a:t>بينما يتشبع المستوى الفرعى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ar-EG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ar-SA" sz="4000" spc="-1" strike="noStrike">
                <a:solidFill>
                  <a:srgbClr val="ff0000"/>
                </a:solidFill>
                <a:latin typeface="Arial"/>
              </a:rPr>
              <a:t>بست إلكترونات لأنه يحتوى على </a:t>
            </a:r>
            <a:r>
              <a:rPr b="1" lang="ar-SA" sz="40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ar-SA" sz="4000" spc="-1" strike="noStrike">
                <a:solidFill>
                  <a:srgbClr val="ff0000"/>
                </a:solidFill>
                <a:latin typeface="Arial"/>
              </a:rPr>
              <a:t> أوربيتالات</a:t>
            </a:r>
            <a:r>
              <a:rPr b="1" lang="ar-EG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ar-SA" sz="40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387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250920" y="2276280"/>
            <a:ext cx="8686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 algn="r" rtl="1"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0000"/>
                </a:solidFill>
                <a:latin typeface="Arial"/>
              </a:rPr>
              <a:t>أ ) عند ازدواج إلكترونين  فى أوربيتال واحد - فبالرغم من أن كلا منهما له حركة دوران مغزلية مضادة للآخر ، إلا أن هناك قوة تنافر بينهما تعمل على تقليل استقرار الذرة (زيادة طاقتها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 </a:t>
            </a:r>
            <a:r>
              <a:rPr b="1" lang="ar-EG" sz="3600" spc="-1" strike="noStrike">
                <a:solidFill>
                  <a:srgbClr val="ff0000"/>
                </a:solidFill>
                <a:latin typeface="Arial"/>
              </a:rPr>
              <a:t>)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 algn="r" rtl="1"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 </a:t>
            </a:r>
            <a:r>
              <a:rPr b="1" lang="ar-SA" sz="3600" spc="-1" strike="noStrike">
                <a:solidFill>
                  <a:srgbClr val="ff0000"/>
                </a:solidFill>
                <a:latin typeface="Arial"/>
              </a:rPr>
              <a:t>ب ) أما فى حالة الإلكترونات المفردة فتكون الذرة أكثر استقرارا ، لأن حركة الدوران المغزلية للإلكترونات المفردة تكون فى اتجاه واحد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 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تفضل الإلكترونات أن تشغل الأوربيتالات مستقلة قبل أن تزدوج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4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24000" y="1699920"/>
            <a:ext cx="8532720" cy="207972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اختر الإجابة الصحيحة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755640" y="551664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>
    <p:blinds dir="horz"/>
    <p:sndAc>
      <p:stSnd>
        <p:snd r:embed="rId3" name="WMPAUD9.WAV"/>
      </p:stSnd>
    </p:sndAc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" dur="45948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45948"/>
                            </p:stCondLst>
                            <p:childTnLst>
                              <p:par>
                                <p:cTn id="3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7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7948"/>
                            </p:stCondLst>
                            <p:childTnLst>
                              <p:par>
                                <p:cTn id="3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48948"/>
                            </p:stCondLst>
                            <p:childTnLst>
                              <p:par>
                                <p:cTn id="45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6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11280" y="83628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ar-EG" sz="4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1" lang="ar-SA" sz="4400" spc="-1" strike="noStrike">
                <a:solidFill>
                  <a:srgbClr val="000000"/>
                </a:solidFill>
                <a:latin typeface="Arial"/>
              </a:rPr>
              <a:t> الطبيعة المزدوجة للإلكترون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94760" y="2276280"/>
            <a:ext cx="869796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Arial"/>
              </a:rPr>
              <a:t>لأن الإلكترون جسيم مادى متحرك له خواص موجي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457200" y="2421000"/>
            <a:ext cx="8229600" cy="37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Arial"/>
              </a:rPr>
              <a:t>لأن الإلكترونات تدور حول النواة بسرعة كبيرة وينشأ عن دورانها قوى طرد مركزية تعادل قوى الجذب المتبادلة بين  الإلكترونات والنواة  لأن هاتان القوتان متساويتان فى المقدار و متضادتان فى الاتجاه .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لا تسقط الإلكترونات داخل النواة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-360" y="2133720"/>
            <a:ext cx="8937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-236520" algn="r" rtl="1"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Arial"/>
              </a:rPr>
              <a:t>لأن هذا أفضل من ناحية الطاقة حيث أن طاقة المستوى 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4s</a:t>
            </a:r>
            <a:r>
              <a:rPr b="1" lang="ar-SA" sz="4000" spc="-1" strike="noStrike">
                <a:solidFill>
                  <a:srgbClr val="ff0000"/>
                </a:solidFill>
                <a:latin typeface="Arial"/>
              </a:rPr>
              <a:t>  أقل من طاقة المستوى الفرعى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3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يملأ المستوى الفرعى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4S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قبل المستوى الفرعى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d 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0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44360" y="1989000"/>
            <a:ext cx="8748720" cy="1430640"/>
          </a:xfrm>
          <a:prstGeom prst="rect">
            <a:avLst/>
          </a:prstGeom>
          <a:gradFill rotWithShape="0">
            <a:gsLst>
              <a:gs pos="0">
                <a:srgbClr val="1cde1c"/>
              </a:gs>
              <a:gs pos="100000">
                <a:srgbClr val="def6f1"/>
              </a:gs>
            </a:gsLst>
            <a:lin ang="81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0600" spc="-1" strike="noStrike">
                <a:solidFill>
                  <a:srgbClr val="000000"/>
                </a:solidFill>
                <a:latin typeface="Arial"/>
              </a:rPr>
              <a:t>أذكر المفهوم العلمى 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  <p:sndAc>
      <p:stSnd>
        <p:snd r:embed="rId1" name="WMPAUD8.WAV"/>
      </p:stSnd>
    </p:sndAc>
  </p:transition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0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1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6836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عدد يحدد عدد الأوربيتالات فى كل مستوى فرعى من مستويات الطاقة واتجاهاتها وأشكالها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16000" y="1628640"/>
            <a:ext cx="3060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0000"/>
                </a:solidFill>
                <a:latin typeface="Times New Roman"/>
                <a:cs typeface="Traditional Arabic"/>
              </a:rPr>
              <a:t>عدد الكم المغناطيس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403280" y="2781360"/>
            <a:ext cx="75106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كمية محددة من الطاقة لا يمكن تجزئتها أو مضاعفتها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50920" y="2708280"/>
            <a:ext cx="143964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0000"/>
                </a:solidFill>
                <a:latin typeface="Times New Roman"/>
                <a:cs typeface="Traditional Arabic"/>
              </a:rPr>
              <a:t>الكم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57200" y="4302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إلكترونات المستوى الفرعى الواحد تفضل شغل أوربيتالاته مستقلة قبل أن تزدوج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3640" y="4797360"/>
            <a:ext cx="216036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0000"/>
                </a:solidFill>
                <a:latin typeface="Times New Roman"/>
                <a:cs typeface="Traditional Arabic"/>
              </a:rPr>
              <a:t>قاعدة هون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31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41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6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كل جسم متحرك تصاحبه حركة موجية لها بعض خصائص الموجات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59280" y="692280"/>
            <a:ext cx="22320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Times New Roman"/>
                <a:cs typeface="Traditional Arabic"/>
              </a:rPr>
              <a:t>مبدأ دى برول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46040" y="22147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لابد للإلكترونات أن تملأ المستويات الفرعية ذات الطاقة الأقل ثم المستويات الفرعية ذات الطاقة الأعل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3078000"/>
            <a:ext cx="353844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0000"/>
                </a:solidFill>
                <a:latin typeface="Times New Roman"/>
                <a:cs typeface="Traditional Arabic"/>
              </a:rPr>
              <a:t>مبدأ البناء التصاعدى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73200" y="4302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إذا تحرك جسم مشحون كهربيا فى مدار دائرى فإنه يفقد جزءا من طاقة حركته تدريجيا على  صورة اشعاعات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" y="5516640"/>
            <a:ext cx="274644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0000"/>
                </a:solidFill>
                <a:latin typeface="Times New Roman"/>
                <a:cs typeface="Traditional Arabic"/>
              </a:rPr>
              <a:t>نظرية ماكسويل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6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3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8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مجموع عدد البروتونات والنيوترونات فى الذر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68360" y="1125360"/>
            <a:ext cx="2027160" cy="70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0000"/>
                </a:solidFill>
                <a:latin typeface="Times New Roman"/>
                <a:cs typeface="Traditional Arabic"/>
              </a:rPr>
              <a:t>العدد الكتلى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73200" y="2286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عدد الإلكترونات السالبة أو عدد البروتونات الموجبة الموجودة فى الذر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95280" y="2852640"/>
            <a:ext cx="237492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0000"/>
                </a:solidFill>
                <a:latin typeface="Times New Roman"/>
                <a:cs typeface="Traditional Arabic"/>
              </a:rPr>
              <a:t>العدد الذر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5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8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539640" y="2349360"/>
            <a:ext cx="822960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78880" indent="0" algn="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Traditional Arabic"/>
              </a:rPr>
              <a:t>يستحيل عمليا تحديد مكان وسرعة الإلكترون معا فى وقت واحد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Traditional Arabic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-1218960" y="4941000"/>
            <a:ext cx="12606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 algn="r" rtl="1">
              <a:tabLst>
                <a:tab algn="l" pos="0"/>
                <a:tab algn="l" pos="411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Arial"/>
                <a:cs typeface="Traditional Arabic"/>
              </a:rPr>
              <a:t>احتمال تواجد الإلكترون بالفراغ المحيط بالنواة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Traditional Arabic"/>
              </a:rPr>
              <a:t>0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Traditional Arab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-356040" y="3141720"/>
            <a:ext cx="388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Arial"/>
                <a:cs typeface="Traditional Arabic"/>
              </a:rPr>
              <a:t>مبدأ عدم التأك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24640" y="5659560"/>
            <a:ext cx="2576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Arial"/>
                <a:cs typeface="Traditional Arabic"/>
              </a:rPr>
              <a:t>الأوربيتا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7" dur="10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5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22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280" y="216000"/>
            <a:ext cx="8686800" cy="16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"/>
                <a:cs typeface="Traditional Arabic"/>
              </a:rPr>
              <a:t>مقدار الطاقة المنطلقة أو المكتسبة عندما ينتقل إلكترون من مستوى طاقة إلى مستوى طاقة آخر </a:t>
            </a:r>
            <a:r>
              <a:rPr b="1" lang="ar-SA" sz="4400" spc="-1" strike="noStrike">
                <a:solidFill>
                  <a:srgbClr val="000000"/>
                </a:solidFill>
                <a:latin typeface="Arial"/>
                <a:ea typeface="Traditional Arabic"/>
              </a:rPr>
              <a:t>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92200" y="2133360"/>
            <a:ext cx="822960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marL="408240" indent="0" algn="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Traditional Arabic"/>
              </a:rPr>
              <a:t>عدد الكم الذى يحدد عدد الأوربيتالات  التى يحتوى مستوى فرعى معين واتجاهاتها  الفراغية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Traditional Arabic"/>
              </a:rPr>
              <a:t>0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Traditional Arab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-2975040" y="3715560"/>
            <a:ext cx="14907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411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Arial"/>
                <a:cs typeface="Traditional Arabic"/>
              </a:rPr>
              <a:t>عدد الكم الذى  يحدد رتبة مستويات الطاقة الرئيسية وعددها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Traditional Arabic"/>
              </a:rPr>
              <a:t>0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Traditional Arab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06280" y="4563360"/>
            <a:ext cx="8568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411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Arial"/>
                <a:cs typeface="Traditional Arabic"/>
              </a:rPr>
              <a:t>عدد الكم الذى يحدد مستويات الطاقة الفرعية  فى كل مستوى و عددها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Traditional Arabic"/>
              </a:rPr>
              <a:t>0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Traditional Arab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24000" y="1484280"/>
            <a:ext cx="143964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0000"/>
                </a:solidFill>
                <a:latin typeface="Times New Roman"/>
                <a:cs typeface="Traditional Arabic"/>
              </a:rPr>
              <a:t>الكم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-263160" y="5661000"/>
            <a:ext cx="4227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Arial"/>
                <a:cs typeface="Traditional Arabic"/>
              </a:rPr>
              <a:t>عدد الكم الثانو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-790920" y="3130560"/>
            <a:ext cx="5595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Arial"/>
                <a:cs typeface="Traditional Arabic"/>
              </a:rPr>
              <a:t>عدد الكم المغناطيس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-271080" y="4221000"/>
            <a:ext cx="4598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Arial"/>
                <a:cs typeface="Traditional Arabic"/>
              </a:rPr>
              <a:t>عدد الكم الرئيس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9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34" dur="20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4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4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4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5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5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1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8" dur="4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4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6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1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Traditional Arabic"/>
              </a:rPr>
              <a:t>عدد الكم الذى يحدد اتجاه دوران الإلكترون فى الأوربيتا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39640" y="2420640"/>
            <a:ext cx="82296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572760" indent="0" algn="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Traditional Arabic"/>
              </a:rPr>
              <a:t>أعداد تحدد عدد الأوربيتالات فى كل مستوى فرعى من مستويات الطاقة واتجاهاتها وأشكالها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34640" y="1125360"/>
            <a:ext cx="450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Arial"/>
                <a:cs typeface="Traditional Arabic"/>
              </a:rPr>
              <a:t>عدد الكم المغزل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22560" y="3498840"/>
            <a:ext cx="2661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Arial"/>
                <a:cs typeface="Traditional Arabic"/>
              </a:rPr>
              <a:t>أعداد الك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79" dur="indefinite" restart="never" nodeType="tmRoot">
          <p:childTnLst>
            <p:seq>
              <p:cTn id="580" dur="indefinite" nodeType="mainSeq">
                <p:childTnLst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9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9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9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9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9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5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1196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1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- عدد الإلكترونات التى يتشبع بها تحت المستوى  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f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..... =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*10              * 6            *2               *1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05960" y="1709640"/>
            <a:ext cx="942480" cy="70344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*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1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39640" y="2852640"/>
            <a:ext cx="822960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- عدد الإلكترونات التى يتشبع بها المستوى الأساسى الثالث يساوى .... 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*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32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            *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18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          *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5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           *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541480" y="4014720"/>
            <a:ext cx="942480" cy="70344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*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1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9640" y="1557000"/>
            <a:ext cx="822960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عنصر توزيعه الإلكترونى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1s</a:t>
            </a:r>
            <a:r>
              <a:rPr b="1" lang="en-US" sz="4000" spc="-1" strike="noStrike" baseline="30000">
                <a:solidFill>
                  <a:srgbClr val="000000"/>
                </a:solidFill>
                <a:latin typeface="Arial"/>
                <a:ea typeface="Arabic Transparent"/>
              </a:rPr>
              <a:t>2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2s</a:t>
            </a:r>
            <a:r>
              <a:rPr b="1" lang="en-US" sz="4000" spc="-1" strike="noStrike" baseline="30000">
                <a:solidFill>
                  <a:srgbClr val="000000"/>
                </a:solidFill>
                <a:latin typeface="Arial"/>
                <a:ea typeface="Arabic Transparent"/>
              </a:rPr>
              <a:t>2</a:t>
            </a:r>
            <a:r>
              <a:rPr b="1" lang="ar-EG" sz="4000" spc="-1" strike="noStrike" baseline="30000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2p</a:t>
            </a:r>
            <a:r>
              <a:rPr b="1" lang="en-US" sz="4000" spc="-1" strike="noStrike" baseline="30000">
                <a:solidFill>
                  <a:srgbClr val="000000"/>
                </a:solidFill>
                <a:latin typeface="Arial"/>
                <a:ea typeface="Arabic Transparent"/>
              </a:rPr>
              <a:t>6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………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3d</a:t>
            </a:r>
            <a:r>
              <a:rPr b="1" lang="en-US" sz="4000" spc="-1" strike="noStrike" baseline="30000">
                <a:solidFill>
                  <a:srgbClr val="000000"/>
                </a:solidFill>
                <a:latin typeface="Arial"/>
                <a:ea typeface="Arabic Transparent"/>
              </a:rPr>
              <a:t>6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    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أ ) ما العدد الذرى له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0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                              ب ) اكتب التوزيع الإلكترونى منسوبا لأقرب غاز خامل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0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ج ) وضح بمخطط توزيع إلكترونات المستوى الفرعى الأخير وفقا لقاعدة هوند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0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50920" y="1268280"/>
            <a:ext cx="860400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س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8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–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تتميز ذرة عنصر بما يلى :-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# عدد مستويات الطاقة الرئيسية =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4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                       # عدد إلكترونات مستوى الطاقة الرئيسى الأخير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7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( أ ) اكتب التوزيع الإلكترونى الكامل لذرة هذا العنصر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0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(ب) ما عدد الإلكترونات المفردة فى مستوى الطاقة الأخير ؟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50920" y="1412640"/>
            <a:ext cx="874872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س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10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– اشرح بإيجاز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         أ - كيفية الحصول على أشعة المهبط .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         ب – تجربة رذرفورد التى أجراها كل     من جيجر و ماريسدن لاكتشاف تركيب الذرة 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964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عدد المستويات الفرعية لعنصر عدده الذرى 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18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يساوى ..... 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*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3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           *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10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         *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5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               *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9640" y="2492280"/>
            <a:ext cx="8229600" cy="30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000000"/>
                </a:solidFill>
                <a:latin typeface="Arial"/>
              </a:rPr>
              <a:t>عند توزيع الإلكترونات تطبق قاعدة هوند فى........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432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*المستويات الفرعية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432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* المستويات الرئيسية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432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*اوربيتالات المستوى الفرعى الواحد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432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* أوربيتالات المستوى الأساسى الواح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288320" y="1700280"/>
            <a:ext cx="660600" cy="70344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*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771640" y="4508640"/>
            <a:ext cx="5975640" cy="119124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*اوربيتالات المستوى الفرعى الواح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9640" y="836640"/>
            <a:ext cx="8229600" cy="22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عند انتقال الإلكترون من المستوى الطاقة الثانى إلى المستوى الطاقة الرابع فإنه يكتسب كمية من الطاقة مقدارها .... 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*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2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كوانتم             * كوانتم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*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4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كوانتم            *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5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كوانت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887280" y="1906560"/>
            <a:ext cx="2204640" cy="70344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Traditional Arabic"/>
              </a:rPr>
              <a:t>* كوانت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9640" y="54936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خطوط الطيف للذرة المثارة ينتج من ....... 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*انتقال الإلكترون المثار من مستوى طاقة أقل إلى مستوى طاقة أعلى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* عودة الإلكترونات المثارة من مستويات الطاقة الاعلى إلى المستويات الادنى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* انتقال الإلكترون المثار من المستوى الطاقة الاولى إلى المستوى الطاقة السابع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*انتقال الإلكترون المثار من المستوى الطاقة الاولى إلى المستوى الطاقة الساد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65240" y="2338560"/>
            <a:ext cx="8604000" cy="192240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Traditional Arabic"/>
              </a:rPr>
              <a:t>* عودة الإلكترونات المثارة من مستويات الطاقة الاعلى إلى المستويات الادن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288720"/>
            <a:ext cx="8229600" cy="32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النظرية التى تقول أن الإلكترونات اثناء دورانها حول النواة فى الحالة المستقرة لا تشع طاقة هى نظرية ..... 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* بور                   * ماكسويل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* دى براولى           * شرودنج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46040" y="4086360"/>
            <a:ext cx="8229600" cy="20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عدد الإلكترونات التى يتشبع بها مستوى طاقة رئيسى  يساوى ...... 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*مربع رقم المستوى           * ضعف مربع رقم المستوى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* ضعف رقم المستوى          * رقم المستو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547040" y="2238480"/>
            <a:ext cx="1207800" cy="64260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* بو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-512640" y="5079960"/>
            <a:ext cx="6073920" cy="64260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* ضعف مربع رقم المستو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5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مستوى الطاقة الفرعى المكون من خمس أوربيتالات هو.... 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*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d*           p*                 s*           f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3068640"/>
            <a:ext cx="8229600" cy="20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العالم الذى قال أن كل جسم متحرك تصاحبه حركة موجية لها بعض  خصائص الموجات الضوئية هو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* بور                      * رذرفورد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* هيزنبرج              * دى براولى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18400" y="4653000"/>
            <a:ext cx="2799000" cy="64260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* دى براول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738440" y="1916280"/>
            <a:ext cx="637920" cy="64260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d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*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9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1T05:09:44Z</dcterms:created>
  <dc:creator>nahla</dc:creator>
  <dc:description/>
  <dc:language>en-US</dc:language>
  <cp:lastModifiedBy>BAC</cp:lastModifiedBy>
  <dcterms:modified xsi:type="dcterms:W3CDTF">2007-05-20T19:45:19Z</dcterms:modified>
  <cp:revision>26</cp:revision>
  <dc:subject/>
  <dc:title>تقويم الباب الأول</dc:title>
</cp:coreProperties>
</file>