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46383-AA68-4CAA-B955-D4CB992A7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799B4-C82B-4C9B-B3EC-07A68737F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C1B63A-16AC-4752-A715-8480D20EA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28AD0F-0C02-4846-ADD8-397C5979C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B3CF4-85E0-4F02-8A10-6D4988962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8B107-5B6F-4829-8358-A98FE1AD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D866D-725F-4BFA-9264-ED9B1F43A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5C27-4F70-461C-B810-04CA08F6B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CB84A-B2CA-49F9-8272-68F99FD9B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B65BC-3B8F-4AAF-86E4-9C98DFE5B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60671-1297-455C-A196-FDDFA84BB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070AC-45C5-4496-A4C0-A3B0D7983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A1A5A-DCEE-4275-8A16-979B36C3E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عمل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 ن عمل بغير علم كان ما يفسد أكثر مما يصلح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مر بن عبد العزيز)</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ين الرضا </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ست براد عيب ذي الود ك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بعض ما فيه إذا كنت راضيا</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عين الرضا عن كل عيب كليل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لكن عين السخط تبدي المساوي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ها يزداد العاملون</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زداد عدد العاملين بتشغيل المساعدين ، أما التدخل في دقائق عملهم دون مبرر فإنه يزعجهم ويفقدهم السلطة والثقة بالنف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داوة والجفاء </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ظروا بعين عداوة لو أن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ين الرضا لا تستحسنوا ما استقبحو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لك في النمل عظة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مل تبني قراها في تماسك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النحل يجني رحيق الشهد أعوان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عض لبعض </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ناس للناس من بدو و حاض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بعض لبعض و إن لم يشعروا خد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فاعة الحسنات </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الحبيب أتى بذنب واحد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اءت محاسنه بألف شفيع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ول الكبيرة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قول الصغيرة تناقش الأشخاص،و العقول المتوسطة تناقش الأشياء،و العقول الكبيرة تناقش المباد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يم صين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تكن كهذا الرئيس </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رئيس الذي لا يتنبأ بالمتاعب ولا يتوقع الحلول للمشكلات ولا يلقي بأفكاره إلى المستقبل المجهول ليعلم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طريقه ما هو إلى مسير أعمال بسيط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وصفاء الذهن </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حافظ على صفاء ذهنه ليستطيع السيطر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حوادث بأفكاره وقرارات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فعال بأفعال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يحق لمن لايجرؤ على الإبداع ولا يرهق نفسه بالاختراع</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 ينفد أخطاء زملائه الذين حاولوا ففشلوا وجربوا فأخطأوا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علم هؤلاء النقاد بأن من لا يعمل لا يخطىء ونقد الأفعال </a:t>
            </a:r>
            <a:endParaRPr b="0" lang="en-US" sz="3200" spc="-1" strike="noStrike">
              <a:solidFill>
                <a:srgbClr val="000000"/>
              </a:solidFill>
              <a:latin typeface="Times New Roman"/>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أفعال أفضل منها خير من نقد الأفعال بالأقوال فقط)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حمام الدماغ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شعر الرؤساء الناجحون بضرورة الانعزال بين آونة وأخرى للتأمل بهدوء ودراسة تصرفاتهم القريبة والبعيد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أمين استرخاء أعصابهم وأذهانهم وهذا ما أسماه غاليين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مام الدما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نحراف القادة و القدوات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بالملح يدرك ما يخشى تغي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كيف بالملح إن حلت به الغ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ل إناء بما فيه ينضح</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الرئيس أن يغذي نفسه ثقافيا وروحيا ، مكرسا كل يوم وقتا للقراءة والتفكير، ومختلطا باستمرار مع أصدقائه               لا للسرور والراحة فحسب بل للمناقشة في أمور اجتماعية وعلمي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كان الرفق في شىء إلا زانه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فبما رحمة من الله لنت لهم ولو كنت فظ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غليظ القلب لانفضوا من حولك فاعف عنهم واستغفر لهم</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شاورهم في الأمر فإذا عزمت فتوكل على الله إن الله يح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توكلي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نفسك أكرمها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نفسك أكرمها وإن ضاق مسك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ك لها فاجعل لنفسك مسكن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ياك والسكنى بمنزل ذلـــــــ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د مسيئا فيها من كان مسك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يدس السم في العسل </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احذر عدوك إذ تراه باســ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الليث يبدو نابه إذ يغضب</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خير في ود امرىء متمل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لو اللسان وقلبه يتله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وكنت أضنها لاتفرج </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ضاقت فلما استحكمت حلقاتها فرجت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كنت أضنها لاتفرج</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رب ضائقة يضيق بها الفتــــــــــ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ذرعا وعند الله منها المخرج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حوادث قد يطرقن أسحارا </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ا راقد الليل مسرورا بأول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ن الحوادث قد يطرقن أسحار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فرحن بليل طاب أول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رب آخــر ليـل أجــج النـــ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ة العقل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شجاعة في القلوب كث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رأيت شجعان العقول قليل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حسن الحلى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عقل المرء أحسن حليتيـــ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زين المرء في الدنيا الحياء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زكوم </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ضر الورود وما عليــ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ذا المزكوم لم يطعم شذا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زلـل</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درك المتأني بعض حاجت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قد يكون مع المستحيل الزل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قطام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زية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ما الرزية فقد م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شاة تموت و لا بعير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كن الرزية فقد ح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يموت بموته بشر كث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نعم أو لا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قلت في شئ نعم فأتمـــــــ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إن نعم دين على الحر واجــ</a:t>
            </a:r>
            <a:r>
              <a:rPr b="0" lang="ar-SA" sz="3200" spc="-1" strike="noStrike">
                <a:solidFill>
                  <a:srgbClr val="000000"/>
                </a:solidFill>
                <a:latin typeface="Times New Roman"/>
              </a:rPr>
              <a:t>	</a:t>
            </a:r>
            <a:r>
              <a:rPr b="0" lang="ar-SA" sz="3200" spc="-1" strike="noStrike">
                <a:solidFill>
                  <a:srgbClr val="000000"/>
                </a:solidFill>
                <a:latin typeface="Times New Roman"/>
              </a:rPr>
              <a:t>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لا فقل لا تسترح و ترح ب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لئلا يقول النـــــاس إنك كـــــاذ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غنائم </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خاطر بنفسك كي تصيب غنيم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جلوس مع العيال قبيح</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مــــال فيه مهابـــة وتجلــــــة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الفقر فيه مذلة وفضـوح</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يد</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قد يخيف القلب القاسي الجنود ويجعل منهم عبيدا ولكننا لا نقبل العمل مع العبيد في خدمة هدف مقد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كافأة</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يست مكافأة الرئيس في ثناء رؤسائه، بل في تعلق مرؤوسه الصامت به لطيبة قلبه وشدة إحساس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افتخار بالحماقة</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أنا لا أفتخر بأني لم أبدل رأيي أبدا حول الأشياء أو حول الأشخاص ،لأن عدم تبديل الرأي أبدا هو حماقة تماثل رفض الإنسان لأن يتعل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م تقولون مالا تفعلون</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 رئيس نادى بمبادىء ومثل عليا فأعجب به الناس وساروا خلفه فما أن رأوا أعماله المنافية لأقواله حتى ثاروا عليه وأطاحوا به وبحكم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سوة المحبين</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نبوا ولكن دون قسوة ، فقد تجرح الملاحظة القاسية كرامة المرؤوس وتدفعه إلى التقاعس أو التمر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زنزانة الجروح</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ثل من ينكأ الجروح القديمة لأجل خطا بسيط كمثل من يسجن الرجل بأخطائه القديمة في سجن لا يستطيع منه فكاكا)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دوهام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تبينوا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تسرعوا في فرض العقوبة بمجرد سماع أقوال أحد الطرفين المتنازعين حتى لو كان من مساعديكم ، فكم من عقوبة مجحفة فرضت من قبل رؤساء يجهلون شكل المذنب واسمه وأسباب حادثت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ماغ الكسلان</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دماغ الكسلان معمل الشيطا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ثل انجليز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راع الظأن تتبعه السوام </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77000"/>
          </a:bodyPr>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أيت العلم صاحبه كري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و ولدته آباء لئام</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يس يزال يرفعه إلى أن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عظم أمره القوم الكر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يتبعونه في كل أم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راع الظأن تتبعه السوام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263880" indent="-263880" algn="just"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لولا العلم ما عرفت رج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لا عرف الحلال و لا الحر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الإمام الشافعي )   </a:t>
            </a: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38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879840" indent="0" algn="just" rtl="1">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ثل إيرلندي</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ؤوس كثيرة خير من رأس واح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قضي على القلق</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شيء يولد السعادة كالاستعاضة عن القلق بالعم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موريس ميترلن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وح الفتية</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ما يروقني الشاب الذي فيه نكهة من الشيوخ فإنه يروقني الشيخ الذي فيه نكهة من الشباب ، والذي يجهد للجمع بين الشباب والشيب في نفسه تبقى روحه فتية مهما تقدم به السن)</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شيشترو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قائد الفاشل </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قائد الفاشل يفتقر إلى المهارة في العلاقات الإنسانية أو أنه يرفض مواجهة قرار صعب بكل حزم أو أنه ليس لديه الموهبة لبيع برامجه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وت من الجوع </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من يتقن حرفة لا يمكن أن يموت من الجوع أبدا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تجول الجوع </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وف الجوع دائما حول بيت الرجل العامل ولكنه لا يجرؤ أبدا أن يطرق با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حكمة صيني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ألقاب</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ستطيع المؤسسة أن تمنح لقب مدير لأي رجل ولكن الرجل</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حده هو الذي يستطيع أن يجعل من نفسه مدي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جوزيف عيس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دارة الذات </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يمكن لمدير أن يدير أي عمل حتى لو تيسر له قدر كاف</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علم والمعرفة والخبرة والمقدرة إذا كان لا يستطيع أن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دير نفسه بجدا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يتر دراك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كرتير يساوي مدير</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تصورت أنك تستطيع أن تعيش حياة خالية من المتاعب فـــاعلم إذن أن في مقدور سكرتيرك أن يجلس على كرسيك ويؤدي نفس العمل الذي تؤديه</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يام ب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ـــــندي لا خير فيه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جندي البـسـيط الـذي لا يطمع إلى أن يصبح جـنرالا في يوم ما هو جــــندي لا خير في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نابليون)</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 على الأكابر يحكم العلماء </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ن الأكابر يحكمون على الور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على الأكابر يحكم العلماء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جــدير بالمجــد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جد الإنسان إلا ابن سعيه</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من كان أسعى كان بالمجد أجدر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صفي الحلـــي)</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ـيب عجــيب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م أر في عيوب الناس عيب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نقص القادرين على التمـــــ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سود مسخت فرودا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ما الجهل خيم في بلا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أيت أسودها مسخت قرود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لى قدر أهل العزم </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لى قدر أهل العزم تأتي العز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أتي على قدر الكرام المكارم</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تعظم في عين الصغير صغاره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تصغرفي عين العظيم العظائ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نفسك فاذممها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عيب زماننا والعيب فيـــــ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ما لزماننا عيــــب سوانا</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نهجو ذا الزمان بغير ذن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لو نطق الزمان لنا هجانا </a:t>
            </a:r>
            <a:endParaRPr b="0" lang="en-US" sz="3200" spc="-1" strike="noStrike">
              <a:solidFill>
                <a:srgbClr val="000000"/>
              </a:solidFill>
              <a:latin typeface="Times New Roman"/>
            </a:endParaRPr>
          </a:p>
          <a:p>
            <a:pPr marL="335880" indent="-3358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ليس الذئب يأكل لحم ذئ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يأكل بعضنا بعضا عيان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قارب البشرية  </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دع الكذوب فلا يكن لك صاحبا</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كذوب يسير حرا يصحب</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لقاك يقســم إنــه بك واثـــــــق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و إذا توارى عنك فهو العقرب </a:t>
            </a:r>
            <a:endParaRPr b="0" lang="en-US" sz="3200" spc="-1" strike="noStrike">
              <a:solidFill>
                <a:srgbClr val="000000"/>
              </a:solidFill>
              <a:latin typeface="Times New Roman"/>
            </a:endParaRPr>
          </a:p>
          <a:p>
            <a:pPr marL="298440" indent="-29844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عطيك من طرف اللسان حلاو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روغ منك كما يروغ الثعل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علي بن أبي طالب )</a:t>
            </a:r>
            <a:endParaRPr b="0" lang="en-US" sz="3200" spc="-1" strike="noStrike">
              <a:solidFill>
                <a:srgbClr val="000000"/>
              </a:solidFill>
              <a:latin typeface="Times New Roman"/>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نز لا يكلف درهما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الذي لا يحسن الابتسامة لا ينبغي له أن يفتح متج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ثل صين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صية كونفوشيوس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 و سوف أنسى ،أرني و لعلي أتذكر ، شاركني و سوف أتذكر ) </a:t>
            </a:r>
            <a:r>
              <a:rPr b="0" lang="ar-SA" sz="3200" spc="-1" strike="noStrike">
                <a:solidFill>
                  <a:srgbClr val="000000"/>
                </a:solidFill>
                <a:latin typeface="Times New Roman"/>
              </a:rPr>
              <a:t>	</a:t>
            </a:r>
            <a:r>
              <a:rPr b="0" lang="ar-SA" sz="3200" spc="-1" strike="noStrike">
                <a:solidFill>
                  <a:srgbClr val="000000"/>
                </a:solidFill>
                <a:latin typeface="Times New Roman"/>
              </a:rPr>
              <a:t>     (  الحكيم الصيني كونفوشيوس)</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كثر الناس لطفا </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الغريب أن يكون أكثر الناس لطفا في الشركات الكبيرة أعلاهم مركزا ،و كثيرا ما راودني هذا السؤال: أتراهم حصلوا على المركز بسبب لطفهم أم أن المركز نفسه هو الذي جعلهم لطفاء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مالكوم فورب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هذا توجب المحبة </a:t>
            </a: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لانت كلمته وجبت محب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بير و إن صغر </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علم فليس المرء يولد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يس أخو علم كمن هو جاهل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إن كبير القوم لا علم عند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غير إذا التفت عليه الجحافل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01680" indent="-3016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إن صغير القوم إن كان عالم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كبير إذا ردت إليه المحاف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لؤم </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المرء لم يدنس اللؤم عرض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فكــــل رداء يرتديـــه جميـــــــ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صفي الدين حل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أخلاق الرجال </a:t>
            </a: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عمرك ما ضاقت بلاد بأهله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كـن أخـلاق الرجـال تضيـق</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عمرو بن معد يكرب)</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فساد الرأي </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كنت ذا رأي فكن ذا عزي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فإن فسـاد الـرأي أن تتــــردد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ذم بعد مدح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إن مدحك امرؤ بما ليس فيك ، فلا تأمن أن يذمك بما ليس فيك)</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أبو زيد البلخي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 الناس </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رسول صلى الله عليه و سلم :(إن شر الناس عند الله منزلة يوم القيامة من تركه الناس اتقاء شر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رواه البخاري و مسلم عن عائش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ا تكن زبداً</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قول الله تعالى { فأما الزبدُ فيذهبُ جُفاءً و أما ما ينفعُ الناس فيمكثُ في الأرض كذلك يضرب الله الأمث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7</a:t>
            </a:r>
            <a:r>
              <a:rPr b="0" lang="ar-SA"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ذات </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ل إنسان صانع ذاته و لكن لا يعترف بهذه الحقيقة سوى الناجحو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وطن المستحيل </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أل الممكن المستحيل أين تقيم فقال في أحلام العاجز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طاغو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صحة و الثروة </a:t>
            </a:r>
            <a:endParaRPr b="0" lang="en-US" sz="44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نم مبكرا و انهض مبكرا تكسب صحة و ثروة و عقل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ثل انجليزي )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ويل للمطففين *</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قليلاً ما تجد من يزن أخطاء الآخرين دون أن يضع إبهامه على كفة الميزا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إن البعوضة تدمي مقلة الأسد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ا تحقرن صغيرا في مخاصم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إن البعوضة تدمي مقلة الأسد</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فر على اليسار </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تواجد بعض الناس في الحياة لمجرد أنهم ولدوا فيه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نصف الفارغ </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ا تكونوا من أولئك الذين إذا رأو  نصف القارورة مملؤ اشتكوا من أ، نصفها فارغ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ساء الخالدون </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كفي حضور الرئيس المحبوب لإثارة الإندفاع و العمل في سبيل الهدف المشترك ، أما الرؤساء الخالدون فيكفي ذكراهم لإثارة مثل هذا الإندفاع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ضريبة التفوق </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س النجاح غاية يقف بعدها كل عمل ، بل يجب أن يزداد الجهد بازدياد التقدم ، و للتفوق ضريبة يدفعها المتفوق من وقته و راحته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مكن و غير الممكن </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هنالك أفكار حسنة و أنظمة جيدة و لكنها غير صالحة للتطبيق في زمان معين أو بيئة معينة ، و الرئيس الصالح هو من استطاع التمييز بين الممكن و غير الممكن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تغــــيير </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يقول الله تعالى :ان الله لا يغير ما بقوم حتى يغيروا ما بأنفسهم و إذا أراد اللهُ بقوم سوءاً فلا مردّ له و ماله من دونه من وال }.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الرعد /</a:t>
            </a:r>
            <a:r>
              <a:rPr b="0" lang="ar-SA" sz="3200" spc="-1" strike="noStrike">
                <a:solidFill>
                  <a:srgbClr val="000000"/>
                </a:solidFill>
                <a:latin typeface="Times New Roman"/>
              </a:rPr>
              <a:t>11</a:t>
            </a:r>
            <a:r>
              <a:rPr b="0" lang="ar-SA" sz="3200" spc="-1" strike="noStrike">
                <a:solidFill>
                  <a:srgbClr val="000000"/>
                </a:solidFill>
                <a:latin typeface="Times New Roman"/>
              </a:rPr>
              <a:t>)</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آفة الرأي </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آفة الرأي الهو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أكثم بن صي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صناعة الحياة </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الرجال الكبار و الأفكار الكبيرة هي التي تصنع البلاد الكبيرة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 مصطفى أمين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تى يطيب العيش ؟ </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طيب العيش أن تلقى أديبـــ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غذاه العـلم و الرأي المصيــ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يكشف عنك حيرة كل جه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فضـل العلم يعرفه الأديـــب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كمال العقل </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لم تر أن العقل زين لأهلـــه </a:t>
            </a:r>
            <a:endParaRPr b="0" lang="en-US" sz="3200" spc="-1" strike="noStrike">
              <a:solidFill>
                <a:srgbClr val="000000"/>
              </a:solidFill>
              <a:latin typeface="Times New Roman"/>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أن كمال العقل طول التجارب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جاع ورب الكعبة </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ا في الأرض أشجع من بر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و لا في الأرض أخوف من مري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لسان العاقــــل </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سان العاقل من وراء قلبه ،فإذا أراد الكلام تفكر ،فإن كان له قال وإن كان عليه سكت ،وقلب الأحمق من وراء لسانه،فإذا أراد أن يقول قال ،فإن كان له سكت وإن كان عليه قال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حسن البصر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د ضل من كانت العمياء تهديه  </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أعمى يقود بصيرا لا أبا لكم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قد ضل من كانت العميان تهديه</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داء لا دواء له </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كل داء دواء يستطب به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إلا الحماقة أعيت من يداويها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محل الأول </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أي قبل شجاعة الشجعان</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و أول وهي المحل الثان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بل أن تندم </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لأن تكون واثقا خير من أن تصبح ناد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رؤوس المستديرة إلى الوراء </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ذين يديرون رؤوسهم إلى الخلف لا يرون الغد أبدا}</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سبــب التدمير    </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سوء التدبير سبب التدمير}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قيمة العمل </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هداف هي التي تحدد قيمة أعمالنا،والمهم هو العمل الذي يكون هدفه مهما}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ربة الفارغة </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عربة الفارغة أكثر جلبة من العربة الممتلئة وهكذا رؤوس الناس}</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برنارد شو)</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جوهرة الإدارة </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جوهرة الإدارة هو قـوة التنبؤ قبل حدوث الأشياء}</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هنري فايو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ا سطرت يداك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 ما من كاتب إلى سيبلى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و يبقى الدهر ما كتبت يد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فلا تكتب بكفك غير شئ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يسرك في القيامة أن ترا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تتعب الأجسام </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إذا كانت النفوس كبارا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تعبت في مرادها الأجس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متنبي)</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رعد لا ماء معه </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رعد الذي لا ماء معه لا ينبت العشب،كذلك العمل الذي لا إخلاص فيه لا يثمر الخير}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السباعي)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عندما يشيب الغراب </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ومن طلب العلى من غير كد</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سيدركه إذا شاب الغراب</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الإمام الشافعي)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يىء يمكنك التميز فيه دون جهد</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فشل هو الشيء الوحيد الذي يستطيع أن يحققه الإنسان دون أن يبذل أي مجهود}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عار البائسين </a:t>
            </a: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شعار البائسين:إذا لم أنجح اليوم فقد نجحت مرة،وهذا يكفي!!!)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مبادىء أم مصالح </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عندما نتكلم فكلنا أصحاب مبادىء،وعندما نعمل فكلنا أصحاب مصالح!!!)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الأقزام              </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من أسباب فشل بعض الإدارات والمؤسسات والشركات أن يتولى أقزام القيام بأعمال كبيرة ويحرصون على أن  يستعينوا بمساعديه أصغر منهم حجما وأقصر منهم قامة،</a:t>
            </a:r>
            <a:endParaRPr b="0" lang="en-US" sz="3200" spc="-1" strike="noStrike">
              <a:solidFill>
                <a:srgbClr val="000000"/>
              </a:solidFill>
              <a:latin typeface="Times New Roman"/>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يبدو الضئيل منهم كبيرا بين الصغار والكبار منهم طويلا بين الأقزام)</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	</a:t>
            </a:r>
            <a:r>
              <a:rPr b="0" lang="ar-SA" sz="3200" spc="-1" strike="noStrike">
                <a:solidFill>
                  <a:srgbClr val="000000"/>
                </a:solidFill>
                <a:latin typeface="Times New Roman"/>
              </a:rPr>
              <a:t>(مصطفى أمين)</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شراسة المشاغب </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إذا شعرت المشاغب بخشيتك منه كبرت مقاومته وازدادت شراسته }.</a:t>
            </a:r>
            <a:r>
              <a:rPr b="0" lang="ar-SA" sz="3200" spc="-1" strike="noStrike">
                <a:solidFill>
                  <a:srgbClr val="000000"/>
                </a:solidFill>
                <a:latin typeface="Times New Roman"/>
              </a:rPr>
              <a:t>	</a:t>
            </a: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العبقريات الرائعة </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كم من عبقريات رائعة تحطمت لأنها لم تجد في اللحظة الملائمة رئيــساً صالحاً يثني بعدل و يشجع بتعقل و يهتم بطريقة تذكي نار الحماسة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بمثل هذا يتربى القادة </a:t>
            </a:r>
            <a:endParaRPr b="0" lang="en-US" sz="4400" spc="-1" strike="noStrike">
              <a:solidFill>
                <a:srgbClr val="000000"/>
              </a:solidFill>
              <a:latin typeface="Times New Roman"/>
            </a:endParaRPr>
          </a:p>
        </p:txBody>
      </p:sp>
      <p:sp>
        <p:nvSpPr>
          <p:cNvPr id="238"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1000"/>
          </a:bodyPr>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ا في المقــام لذي عقــل و ذي أدب                      من راحة فــدع الأوطان و اغتــــر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سافر تجــد عوضــاً عمــن تفارقه             </a:t>
            </a:r>
            <a:r>
              <a:rPr b="0" lang="ar-SA" sz="2000" spc="-1" strike="noStrike">
                <a:solidFill>
                  <a:srgbClr val="000000"/>
                </a:solidFill>
                <a:latin typeface="Times New Roman"/>
              </a:rPr>
              <a:t>	</a:t>
            </a:r>
            <a:r>
              <a:rPr b="0" lang="ar-SA" sz="2000" spc="-1" strike="noStrike">
                <a:solidFill>
                  <a:srgbClr val="000000"/>
                </a:solidFill>
                <a:latin typeface="Times New Roman"/>
              </a:rPr>
              <a:t>و انصب فإن لذيذ العيش في النص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ي رأيت وقوف المـــاء يفســـده                          إن ساح طاب و إن لم يجـر لم يطــ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 الأسد لولا فراق الأرض ما إفترست                  والسهم لولا فراق القوس لم يصـ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شمس لو وقفت في الفلك دائمة                         لملّها النــاس من عجم ومن عــــرب </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والتّبر كالتراب مــلقى في أما كنه                         والعود في أرضه نوع من الخشـــب</a:t>
            </a:r>
            <a:endParaRPr b="0" lang="en-US" sz="2000" spc="-1" strike="noStrike">
              <a:solidFill>
                <a:srgbClr val="000000"/>
              </a:solidFill>
              <a:latin typeface="Times New Roman"/>
            </a:endParaRPr>
          </a:p>
          <a:p>
            <a:pPr marL="312120" indent="-312120" algn="r" rtl="1">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إن تغرب هــذا عــز مطالبـــــــه                         وإن تغــرب ذاك عــــز كالذهـــــــب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18T00:31:24Z</dcterms:created>
  <dc:creator>****</dc:creator>
  <dc:description/>
  <dc:language>en-US</dc:language>
  <cp:lastModifiedBy>AHMAD JASSIM ALNAJAR</cp:lastModifiedBy>
  <dcterms:modified xsi:type="dcterms:W3CDTF">2000-11-02T19:09:02Z</dcterms:modified>
  <cp:revision>70</cp:revision>
  <dc:subject/>
  <dc:title>لا يوجد عنوان للشريحة</dc:title>
</cp:coreProperties>
</file>