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5B03-F396-4A8E-9E74-127A431D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9DA4-504E-4EB6-AB0F-A0D4AFA7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04FF-9D5F-41BB-B1D7-5C65A0EF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43DB-D332-4760-AA7E-FFC61B671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74FA-14C6-419A-8738-3BBA11518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1E20-A972-40E8-A252-9A311085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A678-7FAC-4082-A13D-AE6CEDF0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E8DD-8610-4C92-BCCC-01C8955B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3C8F-C431-429F-96C4-6A4501EC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BE5D-BE9D-423D-86E1-5F26E895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690C-103B-4C8F-ACF8-4176FD62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884E-BF02-4FF8-B077-48BECD79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E187-BE19-44BF-B169-26CDA779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32F4-B9BE-463C-B3CA-35966584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F862-1229-40D1-A448-36C9B977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1203-9E01-4AA2-8E45-D54E755B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FC49-E76E-4E25-B888-E17C5C9E0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EBF5-18BB-482B-84C0-BDBA4883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44AE-B96C-4209-AA8A-9042363F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68BB-99FE-4A5E-985B-EF1BBF9E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DBBE-F65B-440D-B30F-CF547197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A53F-8D23-4CC5-AF30-2CD2DD3B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38B5-7DF8-4CD4-9879-6046D14A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3275-0D5A-4B04-A006-CC292268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235F-85AC-4491-B2F3-485B8F4DD7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2305-323A-49C3-928F-AC25F81858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62160" y="3048120"/>
            <a:ext cx="311004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e_Granada"/>
              </a:rPr>
              <a:t>القصه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e_Granada"/>
              <a:ea typeface="ae_Granada"/>
            </a:endParaRPr>
          </a:p>
        </p:txBody>
      </p:sp>
      <p:sp>
        <p:nvSpPr>
          <p:cNvPr id="121" name=""/>
          <p:cNvSpPr txBox="1"/>
          <p:nvPr/>
        </p:nvSpPr>
        <p:spPr>
          <a:xfrm rot="5400000">
            <a:off x="-1428840" y="3819600"/>
            <a:ext cx="4305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path path="rect">
                    <a:fillToRect l="50000" t="50000" r="50000" b="50000"/>
                  </a:path>
                </a:gradFill>
                <a:latin typeface="B Elham"/>
              </a:rPr>
              <a:t>الصف الثالث الإعدادى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latin typeface="B Elham"/>
              <a:ea typeface="B Elham"/>
            </a:endParaRPr>
          </a:p>
        </p:txBody>
      </p:sp>
      <p:sp>
        <p:nvSpPr>
          <p:cNvPr id="122" name=""/>
          <p:cNvSpPr txBox="1"/>
          <p:nvPr/>
        </p:nvSpPr>
        <p:spPr>
          <a:xfrm rot="16200000">
            <a:off x="6215040" y="3810240"/>
            <a:ext cx="4300560" cy="90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path path="rect">
                    <a:fillToRect l="50000" t="50000" r="50000" b="50000"/>
                  </a:path>
                </a:gradFill>
                <a:latin typeface="B Elham"/>
              </a:rPr>
              <a:t>رحله إلى مركز الأرض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latin typeface="B Elham"/>
              <a:ea typeface="B Elham"/>
            </a:endParaRPr>
          </a:p>
        </p:txBody>
      </p:sp>
    </p:spTree>
  </p:cSld>
  <p:transition advTm="3000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1495440"/>
            <a:ext cx="8076960" cy="1171440"/>
          </a:xfrm>
          <a:prstGeom prst="flowChartAlternateProcess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81080" y="414360"/>
            <a:ext cx="8762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75"/>
                    </a:gs>
                    <a:gs pos="50000">
                      <a:srgbClr val="0000ff"/>
                    </a:gs>
                    <a:gs pos="100000">
                      <a:srgbClr val="000075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 Esfehan"/>
              </a:rPr>
              <a:t>قصــــــــه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75"/>
                  </a:gs>
                  <a:gs pos="50000">
                    <a:srgbClr val="0000ff"/>
                  </a:gs>
                  <a:gs pos="100000">
                    <a:srgbClr val="000075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 Esfehan"/>
              <a:ea typeface="B Esfeh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42960" y="1528920"/>
            <a:ext cx="7772400" cy="5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Jerk"/>
              </a:rPr>
              <a:t>Journey To The Centre Of The Earth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Jerk"/>
              <a:ea typeface="Jer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14400" y="2776680"/>
            <a:ext cx="358128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haracters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09520" y="3624120"/>
            <a:ext cx="852012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Axel: A young boy who lives with his uncle Professor Lidenbrock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843440" y="2762280"/>
            <a:ext cx="320040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FS_Cairo"/>
              </a:rPr>
              <a:t>الشخصيات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FS_Cairo"/>
              <a:ea typeface="FS_Cairo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409840" y="4033800"/>
            <a:ext cx="652932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أكسل: شاب يعيش مع عمه بروفيسير ليدنبروك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247760" y="490680"/>
            <a:ext cx="48290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7175e"/>
                    </a:gs>
                    <a:gs pos="50000">
                      <a:srgbClr val="3333cc"/>
                    </a:gs>
                    <a:gs pos="100000">
                      <a:srgbClr val="1717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ORY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7175e"/>
                  </a:gs>
                  <a:gs pos="50000">
                    <a:srgbClr val="3333cc"/>
                  </a:gs>
                  <a:gs pos="100000">
                    <a:srgbClr val="1717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43000" y="2090880"/>
            <a:ext cx="6705720" cy="50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KacstArt"/>
              </a:rPr>
              <a:t>رحله إلى مركز الأرض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KacstArt"/>
              <a:ea typeface="KacstAr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90440" y="4629240"/>
            <a:ext cx="8601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Professor Lidenbrock: A famous scientist and geologist . Axel’ s uncle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23880" y="5100480"/>
            <a:ext cx="741060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بروفيسير ليدنبروك: عالم مشهور وجيولوجى ، عم أكسل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5120" y="5681520"/>
            <a:ext cx="620568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Martha: Professor Lidenbrock’ s cook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05320" y="6062760"/>
            <a:ext cx="5429160" cy="36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مارثا: طباخة بروفيسير ليدنبروك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</p:spTree>
  </p:cSld>
  <p:transition advTm="3000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95120" y="547560"/>
            <a:ext cx="4681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Hans: A guide from Iceland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257800" y="914400"/>
            <a:ext cx="36766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هانز: مرشد من أيسلند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00160" y="1442880"/>
            <a:ext cx="60483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Dr Fridrikson: A scientist from Iceland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00160" y="2308320"/>
            <a:ext cx="520992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Jules Verne: A writer of the story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00160" y="3195720"/>
            <a:ext cx="69627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norri Sturlasson: A writer of the old book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95120" y="4052880"/>
            <a:ext cx="765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Arne Saknussemm: A writer of the parchment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76720" y="1857240"/>
            <a:ext cx="56577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دكتور فريدريكسون: عالم من أيسلند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952880" y="2824200"/>
            <a:ext cx="3981600" cy="2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جول فيرن: كاتب القصه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657600" y="3648240"/>
            <a:ext cx="527688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سنورى سترلاسون: كاتب الكتاب القديم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448160" y="4557600"/>
            <a:ext cx="44956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آرن ساكنوسم: كاتب البرشمان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</p:spTree>
  </p:cSld>
  <p:transition advTm="3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066680" y="423720"/>
            <a:ext cx="342900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laces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00160" y="1162080"/>
            <a:ext cx="4905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Hamburg: A city in Germany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829040" y="380880"/>
            <a:ext cx="312444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FS_Cairo"/>
              </a:rPr>
              <a:t>الأماكن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FS_Cairo"/>
              <a:ea typeface="FS_Cairo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562720" y="1533600"/>
            <a:ext cx="337176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هامبورج: مدينه فى ألماني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95120" y="2023920"/>
            <a:ext cx="712008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Iceland: An island in the North Sea above Europe .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124080" y="2486160"/>
            <a:ext cx="58104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أيسلندا: جزيره فى بحر الشمال فوق أوروبا 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00160" y="3024360"/>
            <a:ext cx="666252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Reykjavik: The capital city of Iceland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105520" y="3443400"/>
            <a:ext cx="3828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ريكجافيك: عاصمة أيسلند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95120" y="3913200"/>
            <a:ext cx="620568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neffels: An axticit volcano in Iceland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267080" y="4352760"/>
            <a:ext cx="4667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سنيفلز: بركان خامد فى أيسلند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95120" y="4853160"/>
            <a:ext cx="666288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cartaris: A high mountain in Iceland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733920" y="5229360"/>
            <a:ext cx="52005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سكارتاريس: جبل عالى فى أيسلند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95120" y="5718240"/>
            <a:ext cx="666288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Copenhagen: The capital city of Denmark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105520" y="6138720"/>
            <a:ext cx="38289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كوبنهاجن: عاصمة الدنمارك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</p:spTree>
  </p:cSld>
  <p:transition advTm="3000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95120" y="442800"/>
            <a:ext cx="8263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tromboli: A small island off the coast of southern Italy 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438280" y="890640"/>
            <a:ext cx="64962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سترومبولى: جزيره صغيره بعيده عن الساحل الجنوبى لإيطاليا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95120" y="1400040"/>
            <a:ext cx="651060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an Vicenzo: The largest town on Stromboli .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124080" y="1795320"/>
            <a:ext cx="58104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سان فتشنزو: أوسع بلده فى سترومبولى 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95120" y="2347920"/>
            <a:ext cx="742500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Messina: A port on the island of Sicily, Italy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743200" y="2771640"/>
            <a:ext cx="6191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ميسينا: ميناء على جزيرة صقليه فى إيطالي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95120" y="3233880"/>
            <a:ext cx="795816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Marseilles: A port on the southern coast of France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743200" y="3672000"/>
            <a:ext cx="61912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مارسيليا: ميناء على الساحل الجنوبى لفرنس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71600" y="5715000"/>
            <a:ext cx="617220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Kufi14 Normal"/>
              </a:rPr>
              <a:t>إلى اللقاء مع الفصل الأول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Kufi14 Normal"/>
              <a:ea typeface="Kufi14 Normal"/>
            </a:endParaRPr>
          </a:p>
        </p:txBody>
      </p:sp>
    </p:spTree>
  </p:cSld>
  <p:transition advTm="3000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0T03:57:59Z</dcterms:created>
  <dc:creator>A1-AL-FARIS</dc:creator>
  <dc:description/>
  <dc:language>en-US</dc:language>
  <cp:lastModifiedBy>Arwa</cp:lastModifiedBy>
  <dcterms:modified xsi:type="dcterms:W3CDTF">2009-09-28T19:39:53Z</dcterms:modified>
  <cp:revision>14</cp:revision>
  <dc:subject/>
  <dc:title>الشريحة 1</dc:title>
</cp:coreProperties>
</file>