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82ED1-0FF9-4711-A7F3-D4EBE443B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49A28-9508-48C5-AC4C-682EBF7C4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4D903-90D7-414B-8A74-2F2392620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04A07-65C9-465F-BF5A-0A178FA31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93578A-D4E1-4DF0-8510-2661909A6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B12208-D075-4DA4-96FA-0BB89F4F7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F449BA-C2DC-4298-A502-AF29518E9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17BFE6-5EAD-43FB-9FD5-4446D4D0B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824D15-D943-49E3-A5F2-470706BB9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7A7A9D-105C-4E9E-A19E-3C39E31E3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E66DF6-E3D7-4107-B8B9-242E8D0F2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56CEA-7BC5-41D4-9BF7-B6302826E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D0C0A4-4379-4B02-AAE3-90496306A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BF2E83-3F60-4565-AC8C-E1F5FFB2D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BD452D-112F-41DD-AE8A-0E4ADD28B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46DFD2-89F2-45A0-927F-6C91A6257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2F2382-F971-4B56-8F3C-AF3BACCE2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13421-F67B-4956-A702-6A6721265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897E9-A05E-4DCE-91C8-AED48F475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5A1F7-F92E-4DC6-B613-5F4D4BEE2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5F79C-688A-4CB5-8C7C-7795B8195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CDBA8-66A7-4DB3-8D42-BD84F6411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CC17F-A252-4144-8974-F2B1A7AF0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15F8C-D752-4E4F-9E1C-149BB6F79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3FC14-D806-466A-94F4-95FA64EB9C76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64234-A587-487D-A4A3-56735C050695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609480" y="1676520"/>
            <a:ext cx="8153640" cy="31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gravimetric analysis 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ravimetric analysis, by definition, includes all methods of analysis in which the final stage of the analysis involves weighing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.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the most basic case, this could involve simply heating a sample to dryness and weighing to determine the amount of volatile components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.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this account, however, I shall limit myself to gravimetric methods which rely on the use of precipitation reaction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1752480" y="304920"/>
            <a:ext cx="487692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Introduction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30592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*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quantitative determination of a substance by precipitation followed by isolation and weighing of the precipitate is  called  </a:t>
            </a: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gravimetric analysis</a:t>
            </a: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*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basic method of gravimetric analysis is fairly straightforward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.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weighed sample is dissolved after which an excess of a precipitating agent is added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.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precipitate which forms is filtered, dried or ignited and weighed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.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rom the mass and known composition of the precipitate, the amount of the original ion can be determined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c600"/>
                </a:solidFill>
                <a:latin typeface="Tahoma"/>
              </a:rPr>
              <a:t>For successful determinations the following criteria must be met</a:t>
            </a:r>
            <a:r>
              <a:rPr b="0" lang="en-US" sz="4000" spc="-1" strike="noStrike">
                <a:solidFill>
                  <a:srgbClr val="00c600"/>
                </a:solidFill>
                <a:latin typeface="Tahoma"/>
              </a:rPr>
              <a:t> 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desired substance must be completely precipitated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.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 most determinations the precipitate is of such low solubility that losses from dissolution are negligible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.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 additional factor is the 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"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mmon ion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"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ffect, this further reduces the solubility of the precipitate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.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en Ag is precipitated out by addition of Cl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Tahoma"/>
              </a:rPr>
              <a:t>Ag+ + Cl- =&lt;-&gt; AgCl(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***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the (low) solubility of AgCl is reduced still further by the excess of Cl- which is added, pushing the equilibrium to the right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weighed form of the product should be of known composition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product should be "pure" and easily filtered. It is usually difficult to obtain a product which is "pure", i.e. one which is free from impurities but careful precipitation and sufficient washing helps reduce the level of impurity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380880" y="914400"/>
            <a:ext cx="820116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With my best wishes to succeed: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2057400" y="3166920"/>
            <a:ext cx="4572000" cy="1024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Islam.N.S 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2286000" y="4876920"/>
            <a:ext cx="4114800" cy="16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***STAR***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LADIATOR_2008</cp:lastModifiedBy>
  <dcterms:modified xsi:type="dcterms:W3CDTF">2008-11-22T15:45:51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