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742E-AF27-4CCE-9F7E-F8A28009A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3697-636E-4315-B297-6D61DCE47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12B5-F007-4CBE-B1FC-0799F63F4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158B-6D22-443F-966B-EA98A3E43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5CBACD-56D2-477E-BF71-0047C8DEE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FEE542-5DD9-4A71-912E-91AA48449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2B92FD-96BE-468E-BA66-77C8C0972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854EC5-39DA-4655-8DF4-7EDB979D3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B4E682-9C16-44D3-96AC-D7FB55C4F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291713-8E6F-4B81-86A1-BF096D2B3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083248-E285-4A4D-93AD-E501F959A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CCC4-FD8A-4006-978C-90094214D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9F5DCF-1C6A-4A85-A4AE-94831085D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B4AEB4-9C8F-45E3-AD6B-8FDA10A9E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A87F61-C255-4493-8228-23549FB23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B75F15-9393-481E-8369-F9C986532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3BD7D4-CDC9-42FB-9E6C-5D74C7AA4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1465-3C4A-402A-A6F3-EB1942A20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8A60-7706-41BE-B0A7-A1C75ABCA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2B0C-1918-497C-AE0A-0332E0A0C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3481-39F3-4534-BD02-3B76DC479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A218-52CA-4FDD-9F28-59EAC1B34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D121-8C93-4553-A633-D2A039F1C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7360-85BC-4BA4-B079-CD8652C09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E4AF6-A48E-441E-9EBD-AED8382E8576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C9375-B081-4B41-BE30-FF0B4A3CD51C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609480" y="1676520"/>
            <a:ext cx="815364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gravimetric analysis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ravimetric analysis, by definition, includes all methods of analysis in which the final stage of the analysis involves weighing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the most basic case, this could involve simply heating a sample to dryness and weighing to determine the amount of volatile components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this account, however, I shall limit myself to gravimetric methods which rely on the use of precipitation reaction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752480" y="304920"/>
            <a:ext cx="487692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Introduction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3059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*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quantitative determination of a substance by precipitation followed by isolation and weighing of the precipitate is  called  </a:t>
            </a: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gravimetric analysis</a:t>
            </a: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*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basic method of gravimetric analysis is fairly straightforward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weighed sample is dissolved after which an excess of a precipitating agent is added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precipitate which forms is filtered, dried or ignited and weighed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rom the mass and known composition of the precipitate, the amount of the original ion can be determine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600"/>
                </a:solidFill>
                <a:latin typeface="Tahoma"/>
              </a:rPr>
              <a:t>For successful determinations the following criteria must be met</a:t>
            </a:r>
            <a:r>
              <a:rPr b="0" lang="en-US" sz="4000" spc="-1" strike="noStrike">
                <a:solidFill>
                  <a:srgbClr val="00c600"/>
                </a:solidFill>
                <a:latin typeface="Tahoma"/>
              </a:rPr>
              <a:t> 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desired substance must be completely precipitated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 most determinations the precipitate is of such low solubility that losses from dissolution are negligible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 additional factor is the 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"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mon ion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"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ffect, this further reduces the solubility of the precipitate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en Ag is precipitated out by addition of Cl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Tahoma"/>
              </a:rPr>
              <a:t>Ag+ + Cl- =&lt;-&gt; AgCl(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***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the (low) solubility of AgCl is reduced still further by the excess of Cl- which is added, pushing the equilibrium to the right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weighed form of the product should be of known compositio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product should be "pure" and easily filtered. It is usually difficult to obtain a product which is "pure", i.e. one which is free from impurities but careful precipitation and sufficient washing helps reduce the level of impurit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380880" y="914400"/>
            <a:ext cx="82011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With my best wishes to succeed: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2057400" y="3166920"/>
            <a:ext cx="4572000" cy="102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Islam.N.S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2286000" y="4876920"/>
            <a:ext cx="4114800" cy="16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***STAR***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LADIATOR_2008</cp:lastModifiedBy>
  <dcterms:modified xsi:type="dcterms:W3CDTF">2008-11-22T15:45:51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