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EA90-E6A0-4B70-B48B-5C6B71D0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473D-022C-44CE-9E2E-0B01A006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5AE3-22C7-4C5E-84C4-37FD3E83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7F92-4BDC-4CDA-83F3-F87B0D4D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DADED-F086-4987-9A1E-ED43431A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9495D-D4ED-483C-96F0-968D198B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76B4D-15CE-43EC-9008-1A20C1AA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9F41A-AF32-43F3-A47B-CF237572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80099-93C0-45E4-B9DA-FB2B6D2B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59CD8-550C-46C0-BB81-562884D7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5E2BC-DD95-4870-B970-4607838B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3FA0-184A-4D43-8960-1D714459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5E68A-8CAB-4281-8476-0CAABFE8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A48B2-E2E1-4A1C-8C96-35FAB741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20C16-BCDC-47FE-A775-D64F8CAD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B8BA2-C341-48AD-9A25-67382CCA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F6697-4AB3-47F4-9F0E-F69CD51C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A6B5-E985-4C50-B7C1-EF605F07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644B-F47C-4E18-951D-CAA6CABD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6F5D-6C60-4155-AE32-673DC6B1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5095-1511-4203-AD0B-BD018BD7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2424-4C78-4C78-93B5-36EE32B1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923-1924-49B0-9E00-68782E4C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E341-12C9-4A69-B0A5-B6345AAF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329E-193E-41A3-8C80-C8CFCDE9AF9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0233-CDE1-4C9A-A2A9-71AC05B8369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09480" y="1676520"/>
            <a:ext cx="81536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ravimetric analysi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vimetric analysis, by definition, includes all methods of analysis in which the final stage of the analysis involves weighing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most basic case, this could involve simply heating a sample to dryness and weighing to determine the amount of volatile components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account, however, I shall limit myself to gravimetric methods which rely on the use of precipitation reac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2480" y="304920"/>
            <a:ext cx="48769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troductio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quantitative determination of a substance by precipitation followed by isolation and weighing of the precipitate is  called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gravimetric analysis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sic method of gravimetric analysis is fairly straightforwar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eighed sample is dissolved after which an excess of a precipitating agent is add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ecipitate which forms is filtered, dried or ignited and weighed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mass and known composition of the precipitate, the amount of the original ion can be determin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For successful determinations the following criteria must be met</a:t>
            </a: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sired substance must be completely precipitated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most determinations the precipitate is of such low solubility that losses from dissolution are negligibl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dditional factor is the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ion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, this further reduces the solubility of the precipitate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g is precipitated out by addition of C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g+ + Cl- =&lt;-&gt; AgCl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***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(low) solubility of AgCl is reduced still further by the excess of Cl- which is added, pushing the equilibrium to the right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eighed form of the product should be of known composi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should be "pure" and easily filtered. It is usually difficult to obtain a product which is "pure", i.e. one which is free from impurities but careful precipitation and sufficient washing helps reduce the level of impur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0880" y="914400"/>
            <a:ext cx="82011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ith my best wishes to succeed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057400" y="3166920"/>
            <a:ext cx="4572000" cy="10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slam.N.S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0" y="4876920"/>
            <a:ext cx="4114800" cy="16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***STAR**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DIATOR_2008</cp:lastModifiedBy>
  <dcterms:modified xsi:type="dcterms:W3CDTF">2008-11-22T15:45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