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4C7-3821-44AD-94CD-8649E729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68C-A85B-435E-A5CE-2649929A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A22-6603-4641-931E-345DF407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00F-7C6B-4913-809B-C46D3F07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7523-1176-45DE-901E-2FF977D1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BEC6-09F9-456A-A87A-E93034B3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0DC7-17A9-4075-A4B9-D8924E06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C9D5-EB3B-4CB7-83F2-C4B51A89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0DB6-3692-4E68-BD3D-707E3CFA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B287-68BB-48F6-B3CE-428AB60C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CAEF-70DB-40FA-BE3C-9070E2E6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4FC-EB46-4E3F-87E5-B0FBD603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BFD6-CCBA-45E1-AF88-A1002A55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2C6F-5164-4396-8EB0-51EEC167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7772-757F-4473-9D48-D5A973B1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2BDF-5B33-4362-9166-BF9A95C3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7DBE-D3F4-4517-8E2C-328FD8F0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C37-8318-4B38-A0B3-FB5A467A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7AD-1BBC-45F2-8665-A526AF90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CDD-30B6-440A-95A3-67970FCA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404-D395-46CA-85E2-710C4ADF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55F-D5E4-40A4-8143-1EFF1405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B93-C3B2-46BE-94F0-23ED4F00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BC5-C3A7-4F72-B27B-16BFD746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C7AD-7AD5-4EAB-9AAD-3691D4C67B46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1086-41A7-4F3D-B658-5414AE085B43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fff00"/>
                </a:solidFill>
                <a:latin typeface="Tahoma"/>
              </a:rPr>
              <a:t>الوقاية من العنف الأ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. فضيلة المحر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لجنة حماية الطفل – وزارة الصح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،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البح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لمؤتمر العربي الاقليمي  لحماية الأسرة من العن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عمان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يسمبر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أهم التحديات في مواجهة</a:t>
            </a:r>
            <a:r>
              <a:rPr b="1" lang="ar-BH" sz="3200" spc="-1" strike="noStrike">
                <a:solidFill>
                  <a:srgbClr val="eaeaea"/>
                </a:solidFill>
                <a:latin typeface="Tahoma"/>
              </a:rPr>
              <a:t> العنف الاسري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صان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قانون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د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متلاك المرأة لقرار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ق الرجل المطل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وجود البدائ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أفض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توفر الخدمات الحكومية او الدعم من مؤسسات المجتمع المد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القانونية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ظر العنف و تجريم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ؤامة قوانين الاسرة مع حقوق الانسان و الاتفاقيات الدول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تناد الى سماحة الشريعة و ليس التفسير الضي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أصلاح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عنف الأسري  في البرامج التعليمية و التدريبية للقضاة و الشرط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رش عمل متعددة التخصص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الاجتماعي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غيير النفوس قبل النصوص \ تغيير القيم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نظر للعنف الاسري كقضية 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صحية و قانو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عنف الاسري هو ايذاء و سوء معاملة و انتهاك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قوق الانسا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يس تأدي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لمرأ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طلوب وضع حدا للعنف و ليس للحياة الزو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الوقاية من العنف -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تصدي للعوامل المسببة أو المترافقة مع العنف  مثل محاربة الأمية ، الجهل ، الفقر و البطال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ضع حدا للزواج المبكر و التب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ين العمر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نمية المهارات الوالد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نشئة الاجتماعية و نبذ العنف كأسلوب لحل الخلا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كاتب للتوجيه و الارشاد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وعية المجتمع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حول الظاه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راء دراسات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حول الع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اقع سوء معاملة الأطفال في الوطن العربي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130120"/>
            <a:ext cx="75438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هناك العديد من الأطفال يعانون من سوء المعاملة و المجتمع عاجز عن حماي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نادرا ما يتحمل المعتدين مسئولية خطأهم و يستمرون في سلوك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محدودية صلاحيات و امكانيات الجهات المعنية بالحما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تنسيق بين الجهات المعنية دون المستوى المطلو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ahoma"/>
              </a:rPr>
              <a:t>التحديات التي تعرقل جهود التدخل و الوقاي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ظروف الاقتصادية ل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قيم و المفاهيم والسلوكيات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صور التشريعات الوطنية و عدم موأمتها لاتفاقية 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عدم كفاية الردعية في العقوبات المقررة بحق المعتد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جهاز قضائي غير مهيأ لتلبية احتياجات الاطف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</a:t>
            </a: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ولية:</a:t>
            </a:r>
            <a:r>
              <a:rPr b="1" lang="ar-SA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سرة</a:t>
            </a:r>
            <a:r>
              <a:rPr b="0" lang="ar-SA" sz="5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مهارات الاجتماعية و الحياتية 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صحة الانجابية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ثقافة الأسرية و التدبير المنزلي لكل  المقبلين على الزواج ذكورا  و  إناث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سن قانون الزامية التعليم و وضع آليات تنفيذ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قانون ل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حوال الشخصية ( سن الزواج &lt;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سن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تمكين الاسرة العربية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تعليم + عمل + مسكن + ثقافة أس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دخل و العلاج – الوقاية الثالثة</a:t>
            </a:r>
            <a:r>
              <a:rPr b="0" lang="en-US" sz="5400" spc="-1" strike="noStrike">
                <a:solidFill>
                  <a:srgbClr val="eaeaea"/>
                </a:solidFill>
                <a:latin typeface="Tahoma"/>
                <a:ea typeface="Andalus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مراكز لتقديم الخدمة الصحية و النفسية و الاجتماعية  و القانونية لضحايا الاعتدا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إعطاء صلاحيات و إمكانيات اكبر و تفرغ للهيئات المعنية بحماية الطف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آليات واضحة للتنسيق بين وزارات الصحة ، التعليم ، الشئون الاجتماعية ، العدل و الداخ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تأهيل المعتدي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بحوث ميدانية بمنهجية علم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تدريب المهنيين المست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القانون و تطبيق العدال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القوانين المتعلقة بحماية الطفل و موأمتها مع الاتفاقية الدولية ل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يجاد جهاز قضائي متخصص و متحسس و متجاوب مع حاجات الطفل و تعقيدات الاعتداءات ضمن نفس ا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شديد العقوبات المقررة و 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و تشديد القوانين المتعلقة بالعنف الاسري (ضد المرأة و الطفل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cs typeface="Times New Roman"/>
              </a:rPr>
              <a:t>الوقاية</a:t>
            </a:r>
            <a:r>
              <a:rPr b="1" lang="ar-SA" sz="4800" spc="-1" strike="noStrike">
                <a:solidFill>
                  <a:srgbClr val="eaeaea"/>
                </a:solidFill>
                <a:latin typeface="Tahoma"/>
                <a:ea typeface="Times New Roman"/>
              </a:rPr>
              <a:t> :  الاعلام و الثقافة</a:t>
            </a: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خطة إعلامية لمحاربة أفلام العنف و الاباحية ال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قاية الاطفال من الاستغلال الجنسي عبر الانترن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ستخدام الامثل لوسائط الاعلام للتوعية حول ظاهرة سوء المعاملة و عواقبها و الوقاية من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محاربة الصورة النمطية للأسرة في الشاشة العرب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ب المتسلط العنيف و الأم التي لا حول لها و لا قو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     و غياب التواصل و التعاطي السليم مع الخلاف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محاور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ا هي المسببات \ العوامل المرافقة للعنف الاسري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ظاهر قبول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ماذا ترضخ النساء للعنف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صدي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قاية من ايذاء الأطف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خلاصة التعاطي مع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العنف الأسري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 يتطلب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فهم أعمق للمشكلة يستند على الحقائ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رؤية مستقبلية ذات اهداف واضحة و محدد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قرار الترابط بين الوقاية و التدخل و تحميل الجاني المسئولي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الشراكة و 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عمل مع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كسر الحلقة المفرغة  من أين نبدأ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حجم المشكل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 البحري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4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ص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2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ضفة الغربية و قطاع غزة (السنة الماضي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في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يرة جماهيرية كبيرة تعتبر الأكبر من حيث العدد في تاريخ البحرين قدرت بحوالي مائة وعشرين ألف مشارك من الجنسين تقدمها علماء الدين عصر يوم اليوم الأربعاء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نوفمبر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منطقة المنامة 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بت بضمانات شرعية وفقهية لإصدار قانون أحكام الأسرة الذي تنوي السلطة البحرينية إصدار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كانت المسيرة قد بدأ من منحنى مجمع جيان في منطقة سنابس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بينم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صل رأس المسيرة إلى بداية كوبري اللؤلؤة حيث قدر طولها بكيلومترين، وبعرض ثلاثين شخص في كل صف في المتوسط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838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715000"/>
            <a:ext cx="518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في مصر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نس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% من المتعل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9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عام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وافقن على حق الرجل في ضرب المرأ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باب المبررة: رفض الجنس ، عدم طاعة الرجل ، إهمال الاطفا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ما هي المسببات \ العوامل المرافقة للعنف الاسري</a:t>
            </a:r>
            <a:r>
              <a:rPr b="1" lang="ar-BH" sz="4800" spc="-1" strike="noStrike">
                <a:solidFill>
                  <a:srgbClr val="eaeaea"/>
                </a:solidFill>
                <a:latin typeface="Tahoma"/>
              </a:rPr>
              <a:t>؟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عرض للعنف كطف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لقة العنف المفرغ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ضع ال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تحصيل العلم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الاجتماع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الدي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تواصل العائل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ضطرا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ت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شخص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أمراض النفس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دما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يم الاجتماعية و التقال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قيم الاجتماعية و التقاليد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تجاهل العنف و تحمله بل و قبوله اجتماع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رفض العنف الاسري = هدم القيم العائلية و التقاليد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!!!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بقاء الاسرة معا تعلو فوق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كل اعتبار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العنف ا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أ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سري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شأن عائلي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خا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العنف هو حق للرجل و تنفيذا للارادة الاله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قانون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و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 اذا لم يجيزه فهو ل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منعه او يجر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رض الزواج خصوصا المبكر و تزويج القاصر هو نوعا من العنف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ديان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ستند  على العدال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حق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المودة و الرحمة ولايمكن أن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يز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فسير الضيق للشريعة لتبرير التقاليد المجتمعي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عطاء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معن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حصانة لممارسة العن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مظاهر قبول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القانو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تجاهل القضاة الشرعي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صعوبة اثبات الضر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ض النظر من قبل الدولة و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خدمات الايواء و المساعدة القانونية و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قصور في خدمات 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عدم التبليغ عن حالات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و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نكا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شية من نبذ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بول المجتمع للع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اهل المؤسسة الرس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لماذا ترضخ النساء للعنف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ناعة غالبية النساء بأن هذا حقا للرج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عتماد الاقتصادي عل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عدم قدر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رأ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على الاستقل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في منزل منفص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ضغوط الاجتماعية للحفاظ على العائ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وقف المجتمعي من المطل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لقدرة على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خوف من فقدان الحضا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قدان الامل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ي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الة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ا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ذا المَسيرةُ سُئَلَتْ بأيّ عقلٍ خََرَج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حماقة استُجوِبت بأي دافع كتب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أسئِلةُ سُئِـلَت بأي ذَنبِ قُـمِع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6:06:42Z</dcterms:created>
  <dc:creator>user</dc:creator>
  <dc:description/>
  <dc:language>en-US</dc:language>
  <cp:lastModifiedBy>MOHAMMED</cp:lastModifiedBy>
  <dcterms:modified xsi:type="dcterms:W3CDTF">2008-11-07T17:57:36Z</dcterms:modified>
  <cp:revision>24</cp:revision>
  <dc:subject/>
  <dc:title>الوقاية من العنف الأسري</dc:title>
</cp:coreProperties>
</file>