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68E3-1900-4C6D-9FC1-94E7B978E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403A-6F05-4A32-9F95-4731EC00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9A2F-A980-4D91-B30D-67AD4921F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B0E7-9D93-4B9D-86AA-F0B2201B3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F315-B096-4323-846E-817F916F2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17DA-BFC5-4862-8B4E-E4DE67BA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4D9C-B3FC-4516-B9D4-85958A8C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A509-73C8-4FBD-93EB-BCD60304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DEF9-47ED-4F52-86FB-9E215972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AB16-40C4-405E-A171-A87A1FB7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5EF8-9F18-4B6B-9404-0AD2023F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397D-8C5A-4633-9A64-A02A91BD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4C7C-7774-4360-B854-809B83FF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0DE6-A7FD-469D-AF01-DB79012D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3D04-5F68-490E-A6DE-BC3AE7E3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07AB-D23F-4105-AE88-D36176558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E6BD-6E7C-4242-ACA7-60405BDC5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6696-64A9-45E1-B6F5-C085FA61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4844-52B2-4A93-ABFD-AE890F10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9B81-5918-4E08-9143-A73F5633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5985-1D34-46FC-8B9E-F11736E9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E5FB-FD29-4D6E-9FFE-006461F7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C6C1-3535-48F8-87AA-25E541D9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CBEC-CC9E-46C9-8E98-A403A07C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F182-CCB8-46DB-86DF-8123BE359D68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B623-65E2-4911-A526-360850C8C92A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fff00"/>
                </a:solidFill>
                <a:latin typeface="Tahoma"/>
              </a:rPr>
              <a:t>الوقاية من العنف الأ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د. فضيلة المحرو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لجنة حماية الطفل – وزارة الصحة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،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البحري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المؤتمر العربي الاقليمي  لحماية الأسرة من العن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عمان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3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ديسمبر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أهم التحديات في مواجهة</a:t>
            </a:r>
            <a:r>
              <a:rPr b="1" lang="ar-BH" sz="3200" spc="-1" strike="noStrike">
                <a:solidFill>
                  <a:srgbClr val="eaeaea"/>
                </a:solidFill>
                <a:latin typeface="Tahoma"/>
              </a:rPr>
              <a:t> العنف الاسري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حصانة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جتماع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القانونية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دى الرج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امتلاك المرأة لقرار الطلاق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حق الرجل المطل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وجود البدائل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الأفض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توفر الخدمات الحكومية او الدعم من مؤسسات المجتمع المدن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الوقاية من العنف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:</a:t>
            </a: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 انهاء الحصانة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القانونية</a:t>
            </a: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حظر العنف و تجريمه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ؤامة قوانين الاسرة مع حقوق الانسان و الاتفاقيات الدول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ستناد الى سماحة الشريعة و ليس التفسير الضيق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له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أصلاح القضاء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عنف الأسري  في البرامج التعليمية و التدريبية للقضاة و الشرط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رش عمل متعددة التخصص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الوقاية من العنف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:</a:t>
            </a: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 انهاء الحصانة الاجتماعية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غيير النفوس قبل النصوص \ تغيير القيم الاجتماع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نظر للعنف الاسري كقضية اجتماع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صحية و قانون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عنف الاسري هو ايذاء و سوء معاملة و انتهاك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حقوق الانسان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يس تأديب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لمرأ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مطلوب وضع حدا للعنف و ليس للحياة الزوج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000" spc="-1" strike="noStrike">
                <a:solidFill>
                  <a:srgbClr val="eaeaea"/>
                </a:solidFill>
                <a:latin typeface="Tahoma"/>
              </a:rPr>
              <a:t>الوقاية من العنف -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تصدي للعوامل المسببة أو المترافقة مع العنف  مثل محاربة الأمية ، الجهل ، الفقر و البطال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ضع حدا للزواج المبكر و التب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ين العمر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تنمية المهارات الوالد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نشئة الاجتماعية و نبذ العنف كأسلوب لحل الخلاف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كاتب للتوجيه و الارشاد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وعية المجتمع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حول الظاهر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جراء دراسات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 حول العن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واقع سوء معاملة الأطفال في الوطن العربي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2130120"/>
            <a:ext cx="7543800" cy="35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ahoma"/>
              </a:rPr>
              <a:t>هناك العديد من الأطفال يعانون من سوء المعاملة و المجتمع عاجز عن حمايته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نادرا ما يتحمل المعتدين مسئولية خطأهم و يستمرون في سلوكه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ahoma"/>
              </a:rPr>
              <a:t>محدودية صلاحيات و امكانيات الجهات المعنية بالحما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ahoma"/>
              </a:rPr>
              <a:t>التنسيق بين الجهات المعنية دون المستوى المطلوب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cc"/>
                </a:solidFill>
                <a:latin typeface="Tahoma"/>
              </a:rPr>
              <a:t>التحديات التي تعرقل جهود التدخل و الوقاية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لظروف الاقتصادية للعائل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لقيم و المفاهيم والسلوكيات الاجتماع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قصور التشريعات الوطنية و عدم موأمتها لاتفاقية حقوق الطف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عدم كفاية الردعية في العقوبات المقررة بحق المعتدي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جهاز قضائي غير مهيأ لتلبية احتياجات الاطفا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الوقاية</a:t>
            </a:r>
            <a:r>
              <a:rPr b="1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الاولية:</a:t>
            </a:r>
            <a:r>
              <a:rPr b="1" lang="ar-SA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الاسرة</a:t>
            </a:r>
            <a:r>
              <a:rPr b="0" lang="ar-SA" sz="5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تدريس المهارات الاجتماعية و الحياتية  بالمدار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تدريس الصحة الانجابية بالمدار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لثقافة الأسرية و التدبير المنزلي لكل  المقبلين على الزواج ذكورا  و  إناثا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سن قانون الزامية التعليم و وضع آليات تنفيذه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قانون لل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ا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حوال الشخصية ( سن الزواج &lt;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18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سنة 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تمكين الاسرة العربية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تعليم + عمل + مسكن + ثقافة أسر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التدخل و العلاج – الوقاية الثالثة</a:t>
            </a:r>
            <a:r>
              <a:rPr b="0" lang="en-US" sz="5400" spc="-1" strike="noStrike">
                <a:solidFill>
                  <a:srgbClr val="eaeaea"/>
                </a:solidFill>
                <a:latin typeface="Tahoma"/>
                <a:ea typeface="Andalus"/>
              </a:rPr>
              <a:t> 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مراكز لتقديم الخدمة الصحية و النفسية و الاجتماعية  و القانونية لضحايا الاعتداء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إعطاء صلاحيات و إمكانيات اكبر و تفرغ للهيئات المعنية بحماية الطفل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آليات واضحة للتنسيق بين وزارات الصحة ، التعليم ، الشئون الاجتماعية ، العدل و الداخلية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تأهيل المعتدين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 بحوث ميدانية بمنهجية علمية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تدريب المهنيين المستم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الوقاية 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+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+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– القانون و تطبيق العدالة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مراجعة و تعديل القوانين المتعلقة بحماية الطفل و موأمتها مع الاتفاقية الدولية لحقوق الطف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يجاد جهاز قضائي متخصص و متحسس و متجاوب مع حاجات الطفل و تعقيدات الاعتداءات ضمن نفس العائل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تشديد العقوبات المقررة و تنفيذها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مراجعة و تعديل و تشديد القوانين المتعلقة بالعنف الاسري (ضد المرأة و الطفل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  <a:cs typeface="Times New Roman"/>
              </a:rPr>
              <a:t>الوقاية</a:t>
            </a:r>
            <a:r>
              <a:rPr b="1" lang="ar-SA" sz="4800" spc="-1" strike="noStrike">
                <a:solidFill>
                  <a:srgbClr val="eaeaea"/>
                </a:solidFill>
                <a:latin typeface="Tahoma"/>
                <a:ea typeface="Times New Roman"/>
              </a:rPr>
              <a:t> :  الاعلام و الثقافة</a:t>
            </a:r>
            <a:r>
              <a:rPr b="1" lang="ar-SA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خطة إعلامية لمحاربة أفلام العنف و الاباحية الجنس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وقاية الاطفال من الاستغلال الجنسي عبر الانترن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لاستخدام الامثل لوسائط الاعلام للتوعية حول ظاهرة سوء المعاملة و عواقبها و الوقاية منها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محاربة الصورة النمطية للأسرة في الشاشة العربية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الأب المتسلط العنيف و الأم التي لا حول لها و لا قو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      و غياب التواصل و التعاطي السليم مع الخلافا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المحاور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ا هي المسببات \ العوامل المرافقة للعنف الاسري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ظاهر قبول العنف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ماذا ترضخ النساء للعنف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صدي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وقا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وقاية من ايذاء الأطفا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ar-SA" sz="4000" spc="-1" strike="noStrike">
                <a:solidFill>
                  <a:srgbClr val="eaeaea"/>
                </a:solidFill>
                <a:latin typeface="Tahoma"/>
              </a:rPr>
              <a:t>الخلاصة التعاطي مع 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العنف الأسري</a:t>
            </a:r>
            <a:r>
              <a:rPr b="1" lang="ar-SA" sz="4000" spc="-1" strike="noStrike">
                <a:solidFill>
                  <a:srgbClr val="eaeaea"/>
                </a:solidFill>
                <a:latin typeface="Tahoma"/>
              </a:rPr>
              <a:t> يتطلب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فهم أعمق للمشكلة يستند على الحقائق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رؤية مستقبلية ذات اهداف واضحة و محددة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اقرار الترابط بين الوقاية و التدخل و تحميل الجاني المسئولية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الشراكة و 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العمل معا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كسر الحلقة المفرغة  من أين نبدأ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حجم المشكلة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30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 البحري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34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مص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52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ضفة الغربية و قطاع غزة (السنة الماضية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في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مسيرة جماهيرية كبيرة تعتبر الأكبر من حيث العدد في تاريخ البحرين قدرت بحوالي مائة وعشرين ألف مشارك من الجنسين تقدمها علماء الدين عصر يوم اليوم الأربعاء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 نوفمبر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في منطقة المنامة ط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لبت بضمانات شرعية وفقهية لإصدار قانون أحكام الأسرة الذي تنوي السلطة البحرينية إصداره.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وكانت المسيرة قد بدأ من منحنى مجمع جيان في منطقة سنابس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بينما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وصل رأس المسيرة إلى بداية كوبري اللؤلؤة حيث قدر طولها بكيلومترين، وبعرض ثلاثين شخص في كل صف في المتوسط.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838080"/>
            <a:ext cx="586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5715000"/>
            <a:ext cx="5181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000" spc="-1" strike="noStrike">
                <a:solidFill>
                  <a:srgbClr val="eaeaea"/>
                </a:solidFill>
                <a:latin typeface="Tahoma"/>
              </a:rPr>
              <a:t>في مصر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80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من النسا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65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% من المتعلم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69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من العامل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يوافقن على حق الرجل في ضرب المرأ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سباب المبررة: رفض الجنس ، عدم طاعة الرجل ، إهمال الاطفال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ما هي المسببات \ العوامل المرافقة للعنف الاسري</a:t>
            </a:r>
            <a:r>
              <a:rPr b="1" lang="ar-BH" sz="4800" spc="-1" strike="noStrike">
                <a:solidFill>
                  <a:srgbClr val="eaeaea"/>
                </a:solidFill>
                <a:latin typeface="Tahoma"/>
              </a:rPr>
              <a:t>؟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عرض للعنف كطفل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حلقة العنف المفرغ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وضع الاقتصاد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دني التحصيل العلم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دني المهارات الاجتماعي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دني المهارات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والدية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و التواصل العائل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ضطراب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ت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شخص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الأمراض النفسية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ادما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قيم الاجتماعية و التقالي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قانو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القيم الاجتماعية و التقاليد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2819160"/>
            <a:ext cx="7543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تجاهل العنف و تحمله بل و قبوله اجتماعي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رفض العنف الاسري = هدم القيم العائلية و التقاليد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!!!</a:t>
            </a: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بقاء الاسرة معا تعلو فوق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كل اعتبار!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العنف ال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أ</a:t>
            </a: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سري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شأن عائلي</a:t>
            </a: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 خا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العنف هو حق للرجل و تنفيذا للارادة الاله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القانون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والعنف الا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قانون اذا لم يجيزه فهو لا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يمنعه او يجرم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فرض الزواج خصوصا المبكر و تزويج القاصر هو نوعا من العنف؟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ديان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تستند  على العدالة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و الحق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 المودة و الرحمة ولايمكن أن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جيز العنف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فسير الضيق للشريعة لتبرير التقاليد المجتمعية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عطاء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المعنف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حصانة لممارسة العن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مظاهر قبول العنف الا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غياب القانون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تجاهل القضاة الشرعي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3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صعوبة اثبات الضر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4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غض النظر من قبل الدولة و المجتم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5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غياب خدمات الايواء و المساعدة القانونية و الاجتماع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6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القصور في خدمات الوقا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عدم التبليغ عن حالات العنف الا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خو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نكار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خشية من نبذ المجتم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قبول المجتمع للعن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ف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جاهل المؤسسة الرسم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لماذا ترضخ النساء للعنف؟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قناعة غالبية النساء بأن هذا حقا للرج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عتماد الاقتصادي على الرج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عدم قدرة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مرأ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على الاستقلا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في منزل منفص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ضغوط الاجتماعية للحفاظ على العائل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موقف المجتمعي من المطلق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القدرة على الطلاق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الخوف من فقدان الحضان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فقدان الامل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في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الة القضاء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وا</a:t>
            </a: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ذا المَسيرةُ سُئَلَتْ بأيّ عقلٍ خََرَجَتْ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وإذا الحماقة استُجوِبت بأي دافع كتب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وإذا الأسئِلةُ سُئِـلَت بأي ذَنبِ قُـمِعَتْ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16:06:42Z</dcterms:created>
  <dc:creator>user</dc:creator>
  <dc:description/>
  <dc:language>en-US</dc:language>
  <cp:lastModifiedBy>MOHAMMED</cp:lastModifiedBy>
  <dcterms:modified xsi:type="dcterms:W3CDTF">2008-11-07T17:57:36Z</dcterms:modified>
  <cp:revision>24</cp:revision>
  <dc:subject/>
  <dc:title>الوقاية من العنف الأسري</dc:title>
</cp:coreProperties>
</file>