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2038-DF2C-4BFA-8C27-066814E56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55A4-4C03-432A-84F8-CC09A10D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7C8C-F387-4CCD-BA26-041E11B91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B516-BEB1-4E86-9204-AB0B8F772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161E-2E80-48E1-BE92-5196B2592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68730-F756-4BF2-A4B8-D62E3D87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B22E-DDD9-4B2B-8085-6D04B03F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A31B-966A-47AD-80BB-995C339E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79BE-ACD2-4A0F-A578-17CFAC02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8BCD-9F22-4BED-904D-7C516115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D1B9-3D30-4B22-A331-1C72910D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D1C4-1297-41DD-BE68-AAE43DD4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83D8-12AE-4948-B91A-C7B594A2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0051-C604-4424-B4B6-E8F03A16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E891-53A5-4F2A-92CA-85D4FB07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AB67-58E4-4F35-A6A0-6CD689BF9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6AB15-0A79-4AED-A9D5-E5AE8DFDF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2CDE-4320-448B-86A6-BEBC6DF9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C963-BF50-4CB6-9E88-B1E7E6CB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3217-C501-4924-8FF1-7D5A1C96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51E3-AD88-4DBB-9142-BA69B9C8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4403-AC69-457E-B0A9-EAA01AA9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E7CF-6E37-4D27-A302-80200666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C5B0-8F4B-4104-9DDC-330DC9A8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4110-A9F5-4AAC-862E-D4F232EDC5CE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74A9-3415-452E-A45B-C97EAD0B22FB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ffff00"/>
                </a:solidFill>
                <a:latin typeface="Tahoma"/>
              </a:rPr>
              <a:t>الوقاية من العنف الأسري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د. فضيلة المحرو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لجنة حماية الطفل – وزارة الصحة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، 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البحري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المؤتمر العربي الاقليمي  لحماية الأسرة من العن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عمان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3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ديسمبر 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أهم التحديات في مواجهة</a:t>
            </a:r>
            <a:r>
              <a:rPr b="1" lang="ar-BH" sz="3200" spc="-1" strike="noStrike">
                <a:solidFill>
                  <a:srgbClr val="eaeaea"/>
                </a:solidFill>
                <a:latin typeface="Tahoma"/>
              </a:rPr>
              <a:t> العنف الاسري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حصانة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جتماعية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القانونية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لدى الرج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عدم امتلاك المرأة لقرار الطلاق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حق الرجل المطل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عدم وجود البدائل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الأفض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عدم توفر الخدمات الحكومية او الدعم من مؤسسات المجتمع المدن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الوقاية من العنف 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:</a:t>
            </a: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 انهاء الحصانة 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القانونية</a:t>
            </a: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حظر العنف و تجريمه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مؤامة قوانين الاسرة مع حقوق الانسان و الاتفاقيات الدولية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استناد الى سماحة الشريعة و ليس التفسير الضيق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لها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أصلاح القضاء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عنف الأسري  في البرامج التعليمية و التدريبية للقضاة و الشرط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ورش عمل متعددة التخصص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الوقاية من العنف 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:</a:t>
            </a: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 انهاء الحصانة الاجتماعية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غيير النفوس قبل النصوص \ تغيير القيم الاجتماع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نظر للعنف الاسري كقضية اجتماعية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صحية و قانون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عنف الاسري هو ايذاء و سوء معاملة و انتهاك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ل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حقوق الانسان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ليس تأديب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للمرأ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مطلوب وضع حدا للعنف و ليس للحياة الزوج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000" spc="-1" strike="noStrike">
                <a:solidFill>
                  <a:srgbClr val="eaeaea"/>
                </a:solidFill>
                <a:latin typeface="Tahoma"/>
              </a:rPr>
              <a:t>الوقاية من العنف -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تصدي للعوامل المسببة أو المترافقة مع العنف  مثل محاربة الأمية ، الجهل ، الفقر و البطال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وضع حدا للزواج المبكر و التب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ين العمري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تنمية المهارات الوالد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تنشئة الاجتماعية و نبذ العنف كأسلوب لحل الخلاف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مكاتب للتوجيه و الارشاد الاسر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وعية المجتمع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حول الظاهر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جراء دراسات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 حول العن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  <a:cs typeface="Times New Roman"/>
              </a:rPr>
              <a:t>واقع سوء معاملة الأطفال في الوطن العربي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2130120"/>
            <a:ext cx="7543800" cy="35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ahoma"/>
              </a:rPr>
              <a:t>هناك العديد من الأطفال يعانون من سوء المعاملة و المجتمع عاجز عن حمايته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نادرا ما يتحمل المعتدين مسئولية خطأهم و يستمرون في سلوكه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ahoma"/>
              </a:rPr>
              <a:t>محدودية صلاحيات و امكانيات الجهات المعنية بالحماي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ahoma"/>
              </a:rPr>
              <a:t>التنسيق بين الجهات المعنية دون المستوى المطلوب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cc"/>
                </a:solidFill>
                <a:latin typeface="Tahoma"/>
              </a:rPr>
              <a:t>التحديات التي تعرقل جهود التدخل و الوقاية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الظروف الاقتصادية للعائل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القيم و المفاهيم والسلوكيات الاجتماعي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قصور التشريعات الوطنية و عدم موأمتها لاتفاقية حقوق الطف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عدم كفاية الردعية في العقوبات المقررة بحق المعتدي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جهاز قضائي غير مهيأ لتلبية احتياجات الاطفا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eaeaea"/>
                </a:solidFill>
                <a:latin typeface="Times New Roman"/>
                <a:cs typeface="Times New Roman"/>
              </a:rPr>
              <a:t>الوقاية</a:t>
            </a:r>
            <a:r>
              <a:rPr b="1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الاولية:</a:t>
            </a:r>
            <a:r>
              <a:rPr b="1" lang="ar-SA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الاسرة</a:t>
            </a:r>
            <a:r>
              <a:rPr b="0" lang="ar-SA" sz="5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تدريس المهارات الاجتماعية و الحياتية  بالمدار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تدريس الصحة الانجابية بالمدار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الثقافة الأسرية و التدبير المنزلي لكل  المقبلين على الزواج ذكورا  و  إناثا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سن قانون الزامية التعليم و وضع آليات تنفيذه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قانون لل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ا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حوال الشخصية ( سن الزواج &lt;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18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سنة 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تمكين الاسرة العربية 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تعليم + عمل + مسكن + ثقافة أسري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imes New Roman"/>
                <a:cs typeface="Times New Roman"/>
              </a:rPr>
              <a:t>التدخل و العلاج – الوقاية الثالثة</a:t>
            </a:r>
            <a:r>
              <a:rPr b="0" lang="en-US" sz="5400" spc="-1" strike="noStrike">
                <a:solidFill>
                  <a:srgbClr val="eaeaea"/>
                </a:solidFill>
                <a:latin typeface="Tahoma"/>
                <a:ea typeface="Andalus"/>
              </a:rPr>
              <a:t> 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مراكز لتقديم الخدمة الصحية و النفسية و الاجتماعية  و القانونية لضحايا الاعتداء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إعطاء صلاحيات و إمكانيات اكبر و تفرغ للهيئات المعنية بحماية الطفل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آليات واضحة للتنسيق بين وزارات الصحة ، التعليم ، الشئون الاجتماعية ، العدل و الداخلية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تأهيل المعتدين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 بحوث ميدانية بمنهجية علمية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تدريب المهنيين المستم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  <a:cs typeface="Times New Roman"/>
              </a:rPr>
              <a:t>الوقاية 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+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+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3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– القانون و تطبيق العدالة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مراجعة و تعديل القوانين المتعلقة بحماية الطفل و موأمتها مع الاتفاقية الدولية لحقوق الطف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ايجاد جهاز قضائي متخصص و متحسس و متجاوب مع حاجات الطفل و تعقيدات الاعتداءات ضمن نفس العائل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تشديد العقوبات المقررة و تنفيذها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مراجعة و تعديل و تشديد القوانين المتعلقة بالعنف الاسري (ضد المرأة و الطفل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  <a:cs typeface="Times New Roman"/>
              </a:rPr>
              <a:t>الوقاية</a:t>
            </a:r>
            <a:r>
              <a:rPr b="1" lang="ar-SA" sz="4800" spc="-1" strike="noStrike">
                <a:solidFill>
                  <a:srgbClr val="eaeaea"/>
                </a:solidFill>
                <a:latin typeface="Tahoma"/>
                <a:ea typeface="Times New Roman"/>
              </a:rPr>
              <a:t> :  الاعلام و الثقافة</a:t>
            </a:r>
            <a:r>
              <a:rPr b="1" lang="ar-SA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 algn="r" rtl="1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خطة إعلامية لمحاربة أفلام العنف و الاباحية الجنسي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وقاية الاطفال من الاستغلال الجنسي عبر الانترنت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الاستخدام الامثل لوسائط الاعلام للتوعية حول ظاهرة سوء المعاملة و عواقبها و الوقاية منها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محاربة الصورة النمطية للأسرة في الشاشة العربية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الأب المتسلط العنيف و الأم التي لا حول لها و لا قو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      و غياب التواصل و التعاطي السليم مع الخلافات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المحاور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ما هي المسببات \ العوامل المرافقة للعنف الاسري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مظاهر قبول العنف الاسر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لماذا ترضخ النساء للعنف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تصدي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وقا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وقاية من ايذاء الأطفا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ar-SA" sz="4000" spc="-1" strike="noStrike">
                <a:solidFill>
                  <a:srgbClr val="eaeaea"/>
                </a:solidFill>
                <a:latin typeface="Tahoma"/>
              </a:rPr>
              <a:t>الخلاصة التعاطي مع 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العنف الأسري</a:t>
            </a:r>
            <a:r>
              <a:rPr b="1" lang="ar-SA" sz="4000" spc="-1" strike="noStrike">
                <a:solidFill>
                  <a:srgbClr val="eaeaea"/>
                </a:solidFill>
                <a:latin typeface="Tahoma"/>
              </a:rPr>
              <a:t> يتطلب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</a:rPr>
              <a:t>فهم أعمق للمشكلة يستند على الحقائق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</a:rPr>
              <a:t>رؤية مستقبلية ذات اهداف واضحة و محددة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</a:rPr>
              <a:t>اقرار الترابط بين الوقاية و التدخل و تحميل الجاني المسئولية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الشراكة و 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</a:rPr>
              <a:t>العمل معا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كسر الحلقة المفرغة  من أين نبدأ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حجم المشكلة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30%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 البحرين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34%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مص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52%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الضفة الغربية و قطاع غزة (السنة الماضية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في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مسيرة جماهيرية كبيرة تعتبر الأكبر من حيث العدد في تاريخ البحرين قدرت بحوالي مائة وعشرين ألف مشارك من الجنسين تقدمها علماء الدين عصر يوم اليوم الأربعاء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 نوفمبر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في منطقة المنامة ط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لبت بضمانات شرعية وفقهية لإصدار قانون أحكام الأسرة الذي تنوي السلطة البحرينية إصداره.</a:t>
            </a: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وكانت المسيرة قد بدأ من منحنى مجمع جيان في منطقة سنابس 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بينما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وصل رأس المسيرة إلى بداية كوبري اللؤلؤة حيث قدر طولها بكيلومترين، وبعرض ثلاثين شخص في كل صف في المتوسط.</a:t>
            </a: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838080"/>
            <a:ext cx="586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5715000"/>
            <a:ext cx="5181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000" spc="-1" strike="noStrike">
                <a:solidFill>
                  <a:srgbClr val="eaeaea"/>
                </a:solidFill>
                <a:latin typeface="Tahoma"/>
              </a:rPr>
              <a:t>في مصر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80%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من النسا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65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% من المتعلم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69%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من العامل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يوافقن على حق الرجل في ضرب المرأ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اسباب المبررة: رفض الجنس ، عدم طاعة الرجل ، إهمال الاطفال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ما هي المسببات \ العوامل المرافقة للعنف الاسري</a:t>
            </a:r>
            <a:r>
              <a:rPr b="1" lang="ar-BH" sz="4800" spc="-1" strike="noStrike">
                <a:solidFill>
                  <a:srgbClr val="eaeaea"/>
                </a:solidFill>
                <a:latin typeface="Tahoma"/>
              </a:rPr>
              <a:t>؟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تعرض للعنف كطفل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حلقة العنف المفرغ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وضع الاقتصاد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دني التحصيل العلمي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دني المهارات الاجتماعي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دني المهارات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والدية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و التواصل العائل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ضطراب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ت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الشخصية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الأمراض النفسية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الادمان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قيم الاجتماعية و التقالي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قانو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القيم الاجتماعية و التقاليد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2819160"/>
            <a:ext cx="75438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تجاهل العنف و تحمله بل و قبوله اجتماعي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رفض العنف الاسري = هدم القيم العائلية و التقاليد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!!!</a:t>
            </a: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بقاء الاسرة معا تعلو فوق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كل اعتبار!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العنف ال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أ</a:t>
            </a: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سري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شأن عائلي</a:t>
            </a: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 خا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العنف هو حق للرجل و تنفيذا للارادة الالهي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القانون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والعنف الاسري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قانون اذا لم يجيزه فهو لا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يمنعه او يجرم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فرض الزواج خصوصا المبكر و تزويج القاصر هو نوعا من العنف؟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ديان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تستند  على العدالة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و الحق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و المودة و الرحمة ولايمكن أن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جيز العنف الاسر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تفسير الضيق للشريعة لتبرير التقاليد المجتمعية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و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عطاء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المعنف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الحصانة لممارسة العنف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مظاهر قبول العنف الاسري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 غياب القانون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 تجاهل القضاة الشرعيي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3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 صعوبة اثبات الضر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4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 غض النظر من قبل الدولة و المجتم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5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 غياب خدمات الايواء و المساعدة القانونية و الاجتماع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6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القصور في خدمات الوقا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عدم التبليغ عن حالات العنف الاسري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خوف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انكار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خشية من نبذ المجتم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قبول المجتمع للعن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ف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الاسر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جاهل المؤسسة الرسم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لماذا ترضخ النساء للعنف؟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قناعة غالبية النساء بأن هذا حقا للرج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اعتماد الاقتصادي على الرج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عدم قدرة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مرأة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على الاستقلال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في منزل منفص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ضغوط الاجتماعية للحفاظ على العائل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موقف المجتمعي من المطلق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عدم القدرة على الطلاق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الخوف من فقدان الحضان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فقدان الامل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في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عدالة القضاء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وا</a:t>
            </a: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ذا المَسيرةُ سُئَلَتْ بأيّ عقلٍ خََرَجَتْ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وإذا الحماقة استُجوِبت بأي دافع كتب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وإذا الأسئِلةُ سُئِـلَت بأي ذَنبِ قُـمِعَتْ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16:06:42Z</dcterms:created>
  <dc:creator>user</dc:creator>
  <dc:description/>
  <dc:language>en-US</dc:language>
  <cp:lastModifiedBy>MOHAMMED</cp:lastModifiedBy>
  <dcterms:modified xsi:type="dcterms:W3CDTF">2008-11-07T17:57:36Z</dcterms:modified>
  <cp:revision>24</cp:revision>
  <dc:subject/>
  <dc:title>الوقاية من العنف الأسري</dc:title>
</cp:coreProperties>
</file>