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C8C1C7-6612-4C8C-8B70-EAC5EFD35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072EE-5735-4ACD-9FB6-B033F2DEF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0A548B-2CEE-48FB-B807-D9302EE78E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A16481-1BC9-4754-83F5-9DE5B2B773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99993-8D16-495D-94BB-0C26149AA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E7FEE-7690-4916-9AFF-5007F0AF0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72962-CFC5-43A7-9752-47B8E35E2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A7B93-068E-4058-9D9E-7543BD340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44D41-CF1B-4D6B-A1F8-60A895297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9DE1F-0CBA-4F32-877E-987920D8D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ABEC3-17C5-43E9-A381-0707DA60A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AF0C8-B98B-4130-A819-FEC24CC4F9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63426-1CE4-4726-845F-79C15973086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04280"/>
            <a:ext cx="7772400" cy="230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00"/>
                </a:solidFill>
                <a:latin typeface="Arial"/>
              </a:rPr>
              <a:t>أهمية توظيف مهارات التواصل اللاعنفي في حل النزاعات والخلافات المدرسية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971640" y="2492280"/>
            <a:ext cx="7345440" cy="3600720"/>
          </a:xfrm>
          <a:prstGeom prst="rect">
            <a:avLst/>
          </a:prstGeom>
          <a:noFill/>
          <a:ln w="0">
            <a:noFill/>
          </a:ln>
        </p:spPr>
        <p:txBody>
          <a:bodyPr lIns="90000" rIns="90000" tIns="46800" bIns="46800" anchor="t">
            <a:noAutofit/>
          </a:bodyPr>
          <a:p>
            <a:pPr marL="609480" indent="-609480" algn="r" rtl="1">
              <a:spcBef>
                <a:spcPts val="7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توفير مناخ إيجابي في المدرسة </a:t>
            </a:r>
            <a:endParaRPr b="0" lang="en-US" sz="3200" spc="-1" strike="noStrike">
              <a:solidFill>
                <a:srgbClr val="000000"/>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r" rtl="1">
              <a:spcBef>
                <a:spcPts val="799"/>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Arial"/>
              </a:rPr>
              <a:t>تنشيط الحوار والنقاش والتشاور داخل المدرسة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3</a:t>
            </a:r>
            <a:r>
              <a:rPr b="1" lang="en-US" sz="3200" spc="-1" strike="noStrike">
                <a:solidFill>
                  <a:srgbClr val="000099"/>
                </a:solidFill>
                <a:latin typeface="Arial"/>
              </a:rPr>
              <a:t>.  تنمية أواصر المحبة والاحترام في المدرسة</a:t>
            </a:r>
            <a:r>
              <a:rPr b="1" lang="en-US" sz="3200" spc="-1" strike="noStrike">
                <a:solidFill>
                  <a:srgbClr val="000066"/>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8</a:t>
            </a:r>
            <a:r>
              <a:rPr b="0" lang="en-US" sz="3200" spc="-1" strike="noStrike">
                <a:solidFill>
                  <a:srgbClr val="000099"/>
                </a:solidFill>
                <a:latin typeface="Arial"/>
              </a:rPr>
              <a:t>. تفهم المشاعر والحاجات والمطالب والرغبات للأفراد يشكل قاعدة محورية للتواصل اللاعنفي وهذا يتطلب امتلاك مهارات محددة تمكن من تعرفها لتحقيق التواصل العميق .</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9</a:t>
            </a:r>
            <a:r>
              <a:rPr b="0" lang="en-US" sz="3200" spc="-1" strike="noStrike">
                <a:solidFill>
                  <a:srgbClr val="ff0000"/>
                </a:solidFill>
                <a:latin typeface="Arial"/>
              </a:rPr>
              <a:t>. يحقق التواصل اللاعنفي قدراً كبيراً من الفهم والتفاهم بين الأفراد خاصة حين يختفي التضارب بين حاجاتنا ومشاعرنا وحاجات الآخرين ومشاعرهم .</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10</a:t>
            </a:r>
            <a:r>
              <a:rPr b="0" lang="en-US" sz="3200" spc="-1" strike="noStrike">
                <a:solidFill>
                  <a:srgbClr val="003300"/>
                </a:solidFill>
                <a:latin typeface="Arial"/>
              </a:rPr>
              <a:t>. يستند هذا المنحى إلى أكبر قدر ممكن من المسؤولية والذي يمكننا من السيطرة على تصرفاتنا نحو الآخرين وكذلك السيطرة على استجاباتنا لمشاعر وتصرفات الآخري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1</a:t>
            </a:r>
            <a:r>
              <a:rPr b="0" lang="en-US" sz="3200" spc="-1" strike="noStrike">
                <a:solidFill>
                  <a:srgbClr val="ff0000"/>
                </a:solidFill>
                <a:latin typeface="Arial"/>
              </a:rPr>
              <a:t>. يقوم منحى التواصل اللاعنفي على مبدأ الإيمان بحرية الأفراد في اختيار تصرفاتهم ، ولكنهم لا يملكون حرية تحديد نتائج هذه التصرفات ( المسؤولية الشخصية )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12</a:t>
            </a:r>
            <a:r>
              <a:rPr b="0" lang="en-US" sz="3200" spc="-1" strike="noStrike">
                <a:solidFill>
                  <a:srgbClr val="000066"/>
                </a:solidFill>
                <a:latin typeface="Arial"/>
              </a:rPr>
              <a:t>. يتجنب منحى التواصل اللاعنفي اللجوء إلى انتقاد الآخرين أو توجيه اللوم وإصدار الأحكام التي تؤدي إلى الشعور بالإحباط والخيبة والإهانة والإحساس بالذن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99"/>
                </a:solidFill>
                <a:latin typeface="Arial"/>
              </a:rPr>
              <a:t>مراحل منحى التواصل اللاعنفي</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591120" indent="-59112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Arial"/>
              </a:rPr>
              <a:t>مرحلة الملاحظة .</a:t>
            </a:r>
            <a:endParaRPr b="0" lang="en-US" sz="3200" spc="-1" strike="noStrike">
              <a:solidFill>
                <a:srgbClr val="000000"/>
              </a:solidFill>
              <a:latin typeface="Arial"/>
            </a:endParaRPr>
          </a:p>
          <a:p>
            <a:pPr marL="591120" indent="-591120" algn="r" rtl="1">
              <a:spcBef>
                <a:spcPts val="799"/>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Arial"/>
              </a:rPr>
              <a:t>مرحلة المشاعر .</a:t>
            </a:r>
            <a:endParaRPr b="0" lang="en-US" sz="3200" spc="-1" strike="noStrike">
              <a:solidFill>
                <a:srgbClr val="000000"/>
              </a:solidFill>
              <a:latin typeface="Arial"/>
            </a:endParaRPr>
          </a:p>
          <a:p>
            <a:pPr marL="591120" indent="-591120" algn="r" rtl="1">
              <a:spcBef>
                <a:spcPts val="799"/>
              </a:spcBef>
              <a:buClr>
                <a:srgbClr val="6600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0033"/>
                </a:solidFill>
                <a:latin typeface="Arial"/>
              </a:rPr>
              <a:t>مرحلة الحاجات في ارتباطها بالمشاعر .</a:t>
            </a:r>
            <a:endParaRPr b="0" lang="en-US" sz="3200" spc="-1" strike="noStrike">
              <a:solidFill>
                <a:srgbClr val="000000"/>
              </a:solidFill>
              <a:latin typeface="Arial"/>
            </a:endParaRPr>
          </a:p>
          <a:p>
            <a:pPr marL="591120" indent="-591120" algn="r" rtl="1">
              <a:spcBef>
                <a:spcPts val="799"/>
              </a:spcBef>
              <a:buClr>
                <a:srgbClr val="00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cc00"/>
                </a:solidFill>
                <a:latin typeface="Arial"/>
              </a:rPr>
              <a:t>مرحلة المطالب في ارتباطها مع الحاجات .</a:t>
            </a:r>
            <a:endParaRPr b="0" lang="en-US" sz="3200" spc="-1" strike="noStrike">
              <a:solidFill>
                <a:srgbClr val="000000"/>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hi-IN" sz="3200" spc="-1" strike="noStrike">
                <a:solidFill>
                  <a:srgbClr val="ff0000"/>
                </a:solidFill>
                <a:latin typeface="Arial"/>
              </a:rPr>
              <a:t>ألاحظ        </a:t>
            </a:r>
            <a:r>
              <a:rPr b="1" lang="en-US" sz="3200" spc="-1" strike="noStrike">
                <a:solidFill>
                  <a:srgbClr val="000000"/>
                </a:solidFill>
                <a:latin typeface="Arial"/>
              </a:rPr>
              <a:t>   </a:t>
            </a:r>
            <a:r>
              <a:rPr b="1" lang="hi-IN" sz="3200" spc="-1" strike="noStrike">
                <a:solidFill>
                  <a:srgbClr val="003300"/>
                </a:solidFill>
                <a:latin typeface="Arial"/>
              </a:rPr>
              <a:t>أشعر</a:t>
            </a:r>
            <a:r>
              <a:rPr b="1" lang="en-US" sz="3200" spc="-1" strike="noStrike">
                <a:solidFill>
                  <a:srgbClr val="000000"/>
                </a:solidFill>
                <a:latin typeface="Arial"/>
              </a:rPr>
              <a:t>         </a:t>
            </a:r>
            <a:r>
              <a:rPr b="1" lang="hi-IN" sz="3200" spc="-1" strike="noStrike">
                <a:solidFill>
                  <a:srgbClr val="660033"/>
                </a:solidFill>
                <a:latin typeface="Arial"/>
              </a:rPr>
              <a:t>أحتاج</a:t>
            </a:r>
            <a:r>
              <a:rPr b="1" lang="en-US" sz="3200" spc="-1" strike="noStrike">
                <a:solidFill>
                  <a:srgbClr val="000000"/>
                </a:solidFill>
                <a:latin typeface="Arial"/>
              </a:rPr>
              <a:t>            </a:t>
            </a:r>
            <a:r>
              <a:rPr b="1" lang="hi-IN" sz="3200" spc="-1" strike="noStrike">
                <a:solidFill>
                  <a:srgbClr val="00cc00"/>
                </a:solidFill>
                <a:latin typeface="Arial"/>
              </a:rPr>
              <a:t>أطلب</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2" name=""/>
          <p:cNvSpPr/>
          <p:nvPr/>
        </p:nvSpPr>
        <p:spPr>
          <a:xfrm flipH="1">
            <a:off x="6443640" y="486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flipH="1">
            <a:off x="4716360" y="486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flipH="1">
            <a:off x="2700360" y="48690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hi-IN" sz="4000" spc="-1" strike="noStrike">
                <a:solidFill>
                  <a:srgbClr val="cc0000"/>
                </a:solidFill>
                <a:latin typeface="Arial"/>
              </a:rPr>
              <a:t>الأهداف</a:t>
            </a:r>
            <a:r>
              <a:rPr b="1" lang="en-US" sz="4000" spc="-1" strike="noStrike">
                <a:solidFill>
                  <a:srgbClr val="000000"/>
                </a:solidFill>
                <a:latin typeface="Arial"/>
              </a:rPr>
              <a:t> </a:t>
            </a:r>
            <a:br>
              <a:rPr sz="4000"/>
            </a:br>
            <a:r>
              <a:rPr b="1" lang="hi-IN" sz="4000" spc="-1" strike="noStrike">
                <a:solidFill>
                  <a:srgbClr val="003300"/>
                </a:solidFill>
                <a:latin typeface="Arial"/>
              </a:rPr>
              <a:t>يتوقع من المشاركين أن يصبحوا أكثر وقدرة على:</a:t>
            </a:r>
            <a:br>
              <a:rPr sz="4000"/>
            </a:br>
            <a:br>
              <a:rPr sz="4000"/>
            </a:b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250920" y="2276280"/>
            <a:ext cx="8642160" cy="4392360"/>
          </a:xfrm>
          <a:prstGeom prst="rect">
            <a:avLst/>
          </a:prstGeom>
          <a:noFill/>
          <a:ln w="0">
            <a:noFill/>
          </a:ln>
        </p:spPr>
        <p:txBody>
          <a:bodyPr lIns="90000" rIns="90000" tIns="46800" bIns="46800" anchor="t">
            <a:normAutofit fontScale="83000"/>
          </a:bodyPr>
          <a:p>
            <a:pPr marL="284400" indent="-284400" algn="r" rtl="1">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99"/>
                </a:solidFill>
                <a:latin typeface="Arial"/>
              </a:rPr>
              <a:t>تفهم مكانة منحى التواصل اللاعنفي كنموذج وأداة في حل الخلافات والنزاعات المدرسية وتحسين نوعية المناخ المدرسي.</a:t>
            </a:r>
            <a:r>
              <a:rPr b="1" lang="en-US" sz="2800" spc="-1" strike="noStrike">
                <a:solidFill>
                  <a:srgbClr val="000000"/>
                </a:solidFill>
                <a:latin typeface="Arial"/>
              </a:rPr>
              <a:t> </a:t>
            </a:r>
            <a:endParaRPr b="0" lang="en-US" sz="2800" spc="-1" strike="noStrike">
              <a:solidFill>
                <a:srgbClr val="000000"/>
              </a:solidFill>
              <a:latin typeface="Arial"/>
            </a:endParaRPr>
          </a:p>
          <a:p>
            <a:pPr marL="2844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r" rtl="1">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تعرف مفهوم منحى التواصل اللاعنفي ومراحله ومهاراته .</a:t>
            </a:r>
            <a:endParaRPr b="0" lang="en-US" sz="2800" spc="-1" strike="noStrike">
              <a:solidFill>
                <a:srgbClr val="000000"/>
              </a:solidFill>
              <a:latin typeface="Arial"/>
            </a:endParaRPr>
          </a:p>
          <a:p>
            <a:pPr marL="28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r" rtl="1">
              <a:lnSpc>
                <a:spcPct val="90000"/>
              </a:lnSpc>
              <a:spcBef>
                <a:spcPts val="700"/>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660033"/>
                </a:solidFill>
                <a:latin typeface="Arial"/>
              </a:rPr>
              <a:t>امتلاك مهارات التواصل اللاعنفي وخاصة المهارات التي تتعلق بالملاحظة ووصف المشاعر وتحديد الحاجات والمطالب للآخرين .</a:t>
            </a:r>
            <a:endParaRPr b="0" lang="en-US" sz="2800" spc="-1" strike="noStrike">
              <a:solidFill>
                <a:srgbClr val="000000"/>
              </a:solidFill>
              <a:latin typeface="Arial"/>
            </a:endParaRPr>
          </a:p>
          <a:p>
            <a:pPr marL="28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r" rtl="1">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rPr>
              <a:t>توظيف منحى التواصل اللاعنفي في البيئة المدرسية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hi-IN" sz="4000" spc="-1" strike="noStrike">
                <a:solidFill>
                  <a:srgbClr val="cc0000"/>
                </a:solidFill>
                <a:latin typeface="Arial"/>
              </a:rPr>
              <a:t>منحى التواصل اللاعنفي وتوظيفه في حل النزاعات المدرسية :</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591120" indent="-59112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Arial"/>
              </a:rPr>
              <a:t>من أسباب النزاعات والخلافات بين الأفراد بعامة وداخل المدرسة بخاصة :</a:t>
            </a:r>
            <a:endParaRPr b="0" lang="en-US" sz="3200" spc="-1" strike="noStrike">
              <a:solidFill>
                <a:srgbClr val="000000"/>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330200" indent="-443160" algn="r" rtl="1">
              <a:spcBef>
                <a:spcPts val="700"/>
              </a:spcBef>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قصور عملية التواصل وضعفها .</a:t>
            </a: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2</a:t>
            </a:r>
            <a:r>
              <a:rPr b="1" lang="en-US" sz="2800" spc="-1" strike="noStrike">
                <a:solidFill>
                  <a:srgbClr val="003300"/>
                </a:solidFill>
                <a:latin typeface="Arial"/>
              </a:rPr>
              <a:t>.  غياب عملية التواصل أو عدم فاعليتها .</a:t>
            </a: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3</a:t>
            </a:r>
            <a:r>
              <a:rPr b="1" lang="en-US" sz="2800" spc="-1" strike="noStrike">
                <a:solidFill>
                  <a:srgbClr val="cc0000"/>
                </a:solidFill>
                <a:latin typeface="Arial"/>
              </a:rPr>
              <a:t>.  ضعف القدرة على تحليل الموقف وتوقع نتائجه .</a:t>
            </a:r>
            <a:endParaRPr b="0" lang="en-US" sz="2800" spc="-1" strike="noStrike">
              <a:solidFill>
                <a:srgbClr val="000000"/>
              </a:solidFill>
              <a:latin typeface="Arial"/>
            </a:endParaRPr>
          </a:p>
          <a:p>
            <a:pPr marL="5911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99"/>
                </a:solidFill>
                <a:latin typeface="Arial"/>
              </a:rPr>
              <a:t>معنى العنف</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7000"/>
          </a:bodyPr>
          <a:p>
            <a:pPr marL="263880" indent="-263880" algn="r" rtl="1">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0033"/>
                </a:solidFill>
                <a:latin typeface="Arial"/>
              </a:rPr>
              <a:t>العنف في اللغة يعني : الشدة والقسوة واللوم والتعيير .</a:t>
            </a:r>
            <a:endParaRPr b="0" lang="en-US" sz="3200" spc="-1" strike="noStrike">
              <a:solidFill>
                <a:srgbClr val="000000"/>
              </a:solidFill>
              <a:latin typeface="Arial"/>
            </a:endParaRPr>
          </a:p>
          <a:p>
            <a:pPr marL="263880" indent="-263880" algn="r" rtl="1">
              <a:spcBef>
                <a:spcPts val="34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 المعجم الوسيط )</a:t>
            </a:r>
            <a:endParaRPr b="0" lang="en-US" sz="14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263880" algn="r" rtl="1">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Arial"/>
              </a:rPr>
              <a:t>العنف في المعنى الاصطلاحي يعني : استخدام الشدة</a:t>
            </a:r>
            <a:endParaRPr b="0" lang="en-US" sz="32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الجسدية أو اللفظية أو الحركية في التعامل مع الآخرين أو </a:t>
            </a:r>
            <a:endParaRPr b="0" lang="en-US" sz="32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المواقف . </a:t>
            </a:r>
            <a:r>
              <a:rPr b="1" lang="en-US" sz="1400" spc="-1" strike="noStrike">
                <a:solidFill>
                  <a:srgbClr val="cc0000"/>
                </a:solidFill>
                <a:latin typeface="Arial"/>
              </a:rPr>
              <a:t>( إبراهيم وشاح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99"/>
                </a:solidFill>
                <a:latin typeface="Arial"/>
              </a:rPr>
              <a:t>معنى التواصل</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50" name="PlaceHolder 2"/>
          <p:cNvSpPr>
            <a:spLocks noGrp="1"/>
          </p:cNvSpPr>
          <p:nvPr>
            <p:ph/>
          </p:nvPr>
        </p:nvSpPr>
        <p:spPr>
          <a:xfrm>
            <a:off x="324000" y="1600200"/>
            <a:ext cx="8362800" cy="4525920"/>
          </a:xfrm>
          <a:prstGeom prst="rect">
            <a:avLst/>
          </a:prstGeom>
          <a:noFill/>
          <a:ln w="0">
            <a:noFill/>
          </a:ln>
        </p:spPr>
        <p:txBody>
          <a:bodyPr lIns="90000" rIns="90000" tIns="46800" bIns="46800" anchor="t">
            <a:normAutofit fontScale="82000"/>
          </a:bodyPr>
          <a:p>
            <a:pPr marL="281160" indent="-281160" algn="r" rtl="1">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التواصل : هو أداة تحقيق الفهم والتفاهم بين الأفراد وهو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     وسيلة لتحقيق التفاعل والتعاطف مع الآخرين والتعبير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   عن الآراء والأفكار والمشاعر وغيرها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كما يمثل التواصل الوسيط الحيوي في عمليات الحوار والنقاش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والتفاوض والتوسط من أجل حل الخلافات والنزاعا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936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3300"/>
                </a:solidFill>
                <a:latin typeface="Arial"/>
              </a:rPr>
              <a:t>مفهوم التواصل اللاعنفي</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0000"/>
          </a:bodyPr>
          <a:p>
            <a:pPr marL="274320" indent="-27432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99"/>
                </a:solidFill>
                <a:latin typeface="Arial"/>
              </a:rPr>
              <a:t>هو زيادة القدرة على التعاطف مع الآخرين من خلال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الاستماع إليهم على مستوى المشاعر بتركيز ووعي تام لما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يقولونه بما يؤدي إلى الشعور بالدفء العاطفي والمحبة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والثقة والأمان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9360">
            <a:solidFill>
              <a:srgbClr val="00cc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cc00"/>
                </a:solidFill>
                <a:latin typeface="Arial"/>
              </a:rPr>
              <a:t>المباديء الأساسية لمنحى التواصل اللاعنفي</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484280"/>
            <a:ext cx="8229600" cy="5113440"/>
          </a:xfrm>
          <a:prstGeom prst="rect">
            <a:avLst/>
          </a:prstGeom>
          <a:noFill/>
          <a:ln w="0">
            <a:noFill/>
          </a:ln>
        </p:spPr>
        <p:txBody>
          <a:bodyPr lIns="90000" rIns="90000" tIns="46800" bIns="46800" anchor="t">
            <a:normAutofit fontScale="92000"/>
          </a:bodyPr>
          <a:p>
            <a:pPr marL="560520" indent="-560520" algn="r" rtl="1">
              <a:spcBef>
                <a:spcPts val="799"/>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99"/>
                </a:solidFill>
                <a:latin typeface="Arial"/>
              </a:rPr>
              <a:t>تحقيق تواصل عميق مع الذات الإنسانية للآخرين </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ويكون من خلال التفهم العميق لنفسيتهم وحاجاتهم وعواطفهم </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ومطالبهم ورغباتهم . </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2</a:t>
            </a:r>
            <a:r>
              <a:rPr b="0" lang="en-US" sz="3200" spc="-1" strike="noStrike">
                <a:solidFill>
                  <a:srgbClr val="000099"/>
                </a:solidFill>
                <a:latin typeface="Arial"/>
              </a:rPr>
              <a:t>. يجب تفهم ظروف الآخرين وخصائصهم النفسية</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والاجتماعية والعمرية ومراكزهم الوظيفية وأطرهم المعرفية والفكرية حين يتم التفكير في اختيار وسائط الاتصال معهم.</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3</a:t>
            </a:r>
            <a:r>
              <a:rPr b="0" lang="en-US" sz="3200" spc="-1" strike="noStrike">
                <a:solidFill>
                  <a:srgbClr val="000099"/>
                </a:solidFill>
                <a:latin typeface="Arial"/>
              </a:rPr>
              <a:t>. </a:t>
            </a:r>
            <a:r>
              <a:rPr b="0" lang="hi-IN" sz="3200" spc="-1" strike="noStrike">
                <a:solidFill>
                  <a:srgbClr val="ff0000"/>
                </a:solidFill>
                <a:latin typeface="Arial"/>
              </a:rPr>
              <a:t>الحرص على سيطرة العقل والتفكير على اللغة المستخدمة في عملية التواص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333000"/>
            <a:ext cx="8229600" cy="5792760"/>
          </a:xfrm>
          <a:prstGeom prst="rect">
            <a:avLst/>
          </a:prstGeom>
          <a:noFill/>
          <a:ln w="9360">
            <a:solidFill>
              <a:srgbClr val="0066ff"/>
            </a:solidFill>
            <a:miter/>
          </a:ln>
        </p:spPr>
        <p:txBody>
          <a:bodyPr lIns="90000" rIns="90000" tIns="46800" bIns="46800" anchor="t">
            <a:normAutofit fontScale="95000"/>
          </a:bodyPr>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4</a:t>
            </a:r>
            <a:r>
              <a:rPr b="0" lang="ar-SA" sz="3200" spc="-1" strike="noStrike">
                <a:solidFill>
                  <a:srgbClr val="ff0000"/>
                </a:solidFill>
                <a:latin typeface="Arial"/>
              </a:rPr>
              <a:t>.</a:t>
            </a:r>
            <a:r>
              <a:rPr b="0" lang="ar-SA" sz="3200" spc="-1" strike="noStrike">
                <a:solidFill>
                  <a:srgbClr val="000000"/>
                </a:solidFill>
                <a:latin typeface="Arial"/>
              </a:rPr>
              <a:t> </a:t>
            </a:r>
            <a:r>
              <a:rPr b="0" lang="ar-SA" sz="3200" spc="-1" strike="noStrike">
                <a:solidFill>
                  <a:srgbClr val="ff0000"/>
                </a:solidFill>
                <a:latin typeface="Arial"/>
              </a:rPr>
              <a:t>الربط الوثيق بين المشاعر والحاجات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00"/>
                </a:solidFill>
                <a:latin typeface="Arial"/>
              </a:rPr>
              <a:t>5</a:t>
            </a:r>
            <a:r>
              <a:rPr b="0" lang="ar-SA" sz="3200" spc="-1" strike="noStrike">
                <a:solidFill>
                  <a:srgbClr val="00cc00"/>
                </a:solidFill>
                <a:latin typeface="Arial"/>
              </a:rPr>
              <a:t>. الحاجات الإنسانية على الرغم من تنوعها واختلافها تعتبر حاجات عامة ومشتركة نظراً للتشابه بين خصائص بني البشر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6</a:t>
            </a:r>
            <a:r>
              <a:rPr b="0" lang="ar-SA" sz="3200" spc="-1" strike="noStrike">
                <a:solidFill>
                  <a:srgbClr val="000066"/>
                </a:solidFill>
                <a:latin typeface="Arial"/>
              </a:rPr>
              <a:t>.</a:t>
            </a:r>
            <a:r>
              <a:rPr b="0" lang="ar-SA" sz="3200" spc="-1" strike="noStrike">
                <a:solidFill>
                  <a:srgbClr val="000099"/>
                </a:solidFill>
                <a:latin typeface="Arial"/>
              </a:rPr>
              <a:t> التواصل الفعال يحتاج إلى بيئة تواصلية ملائمة بحيث يتم اختيار الزمان والمكان الملائمين للتواصل المريح والهاديء وتوفير البيئة النفسية المريحة وتفهم أسباب التوتر والضغط النفسي والمشكلات التي يواجهها الآخرون والتعاطف معهم وتوفير أجواء السعادة والبهجة والسرور لهم .</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6840" y="333360"/>
            <a:ext cx="8218440" cy="194328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7</a:t>
            </a:r>
            <a:r>
              <a:rPr b="1" lang="en-US" sz="2800" spc="-1" strike="noStrike">
                <a:solidFill>
                  <a:srgbClr val="800000"/>
                </a:solidFill>
                <a:latin typeface="Arial"/>
              </a:rPr>
              <a:t>. توظيف اللغة الغنية بالمعاني الإنسانية التي تمكن من تحقيق تواصل عاطفي عميق دون ترك انعكاسات عاطفية سلبية عند الطرف الذي نتواصل معه .</a:t>
            </a:r>
            <a:endParaRPr b="0" lang="en-US" sz="2800" spc="-1" strike="noStrike">
              <a:solidFill>
                <a:srgbClr val="000000"/>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a:t>
            </a:r>
            <a:r>
              <a:rPr b="1" lang="hi-IN" sz="2800" spc="-1" strike="noStrike">
                <a:solidFill>
                  <a:srgbClr val="ff0000"/>
                </a:solidFill>
                <a:latin typeface="Arial"/>
              </a:rPr>
              <a:t>مثال :</a:t>
            </a:r>
            <a:endParaRPr b="0" lang="en-US" sz="2800" spc="-1" strike="noStrike">
              <a:solidFill>
                <a:srgbClr val="000000"/>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7" name=""/>
          <p:cNvGraphicFramePr/>
          <p:nvPr/>
        </p:nvGraphicFramePr>
        <p:xfrm>
          <a:off x="468360" y="2492280"/>
          <a:ext cx="8218440" cy="3816000"/>
        </p:xfrm>
        <a:graphic>
          <a:graphicData uri="http://schemas.openxmlformats.org/drawingml/2006/table">
            <a:tbl>
              <a:tblPr/>
              <a:tblGrid>
                <a:gridCol w="3598920"/>
                <a:gridCol w="2305080"/>
                <a:gridCol w="2314440"/>
              </a:tblGrid>
              <a:tr h="953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أنت غير دقيق</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أنت غير صاد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أنت كاذب</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543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Arial"/>
                        </a:rPr>
                        <a:t>أنت غير آمن</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Arial"/>
                        </a:rPr>
                        <a:t>أنت قل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Arial"/>
                        </a:rPr>
                        <a:t>أنت جبا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3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أنت غير حيادي</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أنت غير عادل</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أنت متحيز</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43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cc00"/>
                          </a:solidFill>
                          <a:latin typeface="Arial"/>
                        </a:rPr>
                        <a:t>يمكنك أن تحقق نجاحاً أفضل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cc00"/>
                          </a:solidFill>
                          <a:latin typeface="Arial"/>
                        </a:rPr>
                        <a:t>أنت غير ناجح</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cc00"/>
                          </a:solidFill>
                          <a:latin typeface="Arial"/>
                        </a:rPr>
                        <a:t>أنت فاشل</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8T15:44:38Z</dcterms:created>
  <dc:creator>WISHAH</dc:creator>
  <dc:description/>
  <dc:language>en-US</dc:language>
  <cp:lastModifiedBy>MOHAMMED</cp:lastModifiedBy>
  <dcterms:modified xsi:type="dcterms:W3CDTF">2008-11-07T17:58:49Z</dcterms:modified>
  <cp:revision>7</cp:revision>
  <dc:subject/>
  <dc:title>أهمية توظيف مهارات التواصل اللاعنفي في حل النزاعات والخلافات المدرسية . </dc:title>
</cp:coreProperties>
</file>